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0E35-14DC-4E52-8BBA-23D8D3B7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2127-DB2C-44B6-9D70-9033A814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5CD8E-E25F-41D2-BFF3-26857F10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F3879-37FE-41E1-A6C5-F584380C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CC78E-9773-4F70-BA9F-7E7D33B9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EE10E-234F-4F8A-A872-7E3AA44B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43D17-4C25-46E1-803E-4DF71921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9F3FF-3C96-4401-B761-1FA14CE8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239B8-F1FF-4AD9-A2F7-A4FA5AAD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74926-00B2-44C7-9972-ED231644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1627E-433A-4374-A3F1-63E48E76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F427C-307D-4826-B315-3DB9A7BD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B12E-162A-42B1-AC79-BB1714CC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BD462-03D4-44BC-8181-E93D858D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79343-1C00-4BD9-9FC0-9A852F96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DCA47-83B5-4D20-8C69-28B6959E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6E08E-9D79-4819-BB11-084BDDC4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7F077-1A1C-4FB7-8814-0775C37B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55C3E-BE2C-48F7-8644-44E656E3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13112-62FC-4AA0-8E03-8B05581A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41E64-C9C6-401E-AAB4-53F37E12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E0601-28E0-4B93-828C-7EE54C0E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71B00-5FE8-4117-A69B-859B4776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3327-90F5-45F9-9465-09CFD60B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921CF-A297-4377-86FC-0A6E333A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1B71F-7475-4E4C-A834-59CD57CE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E434D-2D5D-4F13-B332-BF631D03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F951D-C363-4C86-97F0-DA894B1B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78C58-41E1-4B97-BA2B-736822B8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F3268-6EF5-4724-B000-237283E8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CCDD6-7723-4E78-ACE8-6D734AE0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8C69D-A66D-415F-9360-1A966C52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8B946-F564-43CD-91FF-11072F14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AD8E2-D8CE-41A7-BEB4-58D08C1E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CF44-DD5D-42D9-BAAA-AA922AE9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D528F-CEE1-43BC-B842-C9275909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ABF0B-2BE5-4C83-9A5A-75AD016F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4144A-6210-4396-9DCD-473EC6CA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C99F7-60B3-472B-89BA-8A5291E1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86243-CB11-477B-9420-7A6D8287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C58AA-4513-46AB-9337-8CF3F428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85532-D38B-4863-B48D-FAC1AF15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283EC-15A7-4F24-A31D-B9271FC2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A534A-F29C-4E35-A0E5-A3629722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E788B-638C-48EC-BDB9-D798E28E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6FF5-1886-416B-B05F-D08AAF30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44DE4-8834-46BF-847D-FC36EBB7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7C169-B424-4DCA-856D-40A96524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CDDFA-5AA4-4611-8F26-A8961E8E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8BB69-D870-41DC-BBE8-FD9AC482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89310-480F-455D-8B92-A990857B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AD0407-9163-4ED0-85D8-98D8517D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FF4A0-C67F-435C-A39E-79AAF632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B0F03-AA08-4141-9EA9-CAD81FDC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34E86B-F1CB-4AE4-A24B-DE528893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919B2-708C-456F-83F8-FE6292CC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38B8-5992-4E72-BB37-3A5ADACE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2123FA-B546-4CD3-8325-E5DFE9E5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B80E33-F8A5-4D28-BD65-E41EEFF2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BC135B-907F-4E3F-A8FD-CA97F02F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187CB1-964C-45F3-86A6-7C8462A6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EFECE-2369-42DA-800C-6FB382DE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0776C-4E1B-4967-8F42-EBD9A0A5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AAD39-C8D3-46F3-8B79-2F2E7657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EB4A-367F-4C28-8B36-15536154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391B-1413-4156-88E3-DDBA968D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DB3A-27AC-4011-9B7C-8EC9175D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F8DC-F12E-4AFA-8C65-10B5B000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2CBB-F35D-42A8-9ACD-E58137BC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6095-A7BC-40B7-ABA9-C0A1BE3C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1A19-C449-4240-BB5D-BBCFD0F3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094E-CE55-4A67-89CB-FD19EA57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5DD2-0AC9-4D6D-B222-90DEA765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47A8-8C2F-4540-8595-15B9458C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A1773-7F19-415A-B267-9DB34FBA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17AE4-1D7D-416C-84BE-D9E56C1E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C27CD-25FD-40CA-A072-B3FF32A6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BAA48-0888-4F9B-943A-DB0F61A0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CF91A-CD87-401D-A7E3-E421387D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95B5-1B1B-4435-BB7C-817E4567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7461C-F405-41EB-B5FA-6B7E4D05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0E0BB-662B-4088-9E09-B69F84ED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8A644-D484-49FC-9013-D8D6F4CC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B28EB-05DB-4F69-AF53-04AE540C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B8B4A-B1AD-412A-A2B2-91E12873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A10E3-6E5A-45FD-92A3-E660DF72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B54DE-EFAF-4515-BE02-CC5D29E3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28963-6F8C-42E4-8C6A-0B62E3D0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F8F8A-2EC2-480A-9FF6-359C6AA3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2EF84-DC04-4C03-83A6-1369983A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3553-31D9-41E8-B451-8CB01530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0AA9B-0B61-42A0-A86D-A7DBBC1F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63A72-16FD-4C78-A9F3-37F1F2D6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53BA8-FE9B-4E9F-A461-D41608A5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8834E-1E40-4385-8706-1016B290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5C146-C853-4ECE-8925-EE4A171A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1E9BE-9E06-452E-A4AB-33C888D0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D406B-AFC9-4ADF-B72A-3B94CE3F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0E39F-7FF8-454B-A8CA-7EC48FBE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5019E-C15B-47B9-BC02-AC04C96F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0CD06-A70A-43B4-BB24-AF3B8B89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1F6D-C23D-407C-9258-A21F450B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64027-B0AD-4377-81CD-ED72C02E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3BCCF-E3A2-42DA-80BD-DED078A1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9AD23-6EFB-48D8-8B99-B7F3ACB2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1FB2E-1663-4BA5-A906-DD271D35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A8F86-1C60-4EA5-BD9E-3632B6C2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A29B0-9067-4C0A-87E2-CC61DF65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8C252-991C-4275-96BF-434FAD4E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A1A2D-0154-4C20-AD13-CD90FC9C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49049-D51E-4770-AA10-5AC7F567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C5556-5229-4FFA-B306-71CFB2BA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F71-AD75-41A8-9ED0-F8C3BF15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9537C-7A29-4325-AC47-5100903A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10C70-BD52-459C-9AAD-2D52A155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CC33D-3185-4A27-AFF9-150FCFB3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CED82-9F89-4266-B23B-D5E59C64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FFB0A-0EEC-40AA-9428-1FFF6CBB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745C3-9CA9-49BA-9A6D-1D64200B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F3C6B-6A03-4794-B682-E430274D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A380A-1DEF-40F4-9E70-FBBB6D8D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5C0F9-5C5B-4340-8119-B3F20BEA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158B3-0F49-46C3-A16B-86D5A133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6A7D-42E1-4083-82AB-1F88D934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F0D90-AE54-437D-9E91-9056DB8E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79E35-FEAF-4313-947B-1906B132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A7B35-D2E8-42B9-B0BA-F01230FC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58EC3-62B8-459C-8B29-AC61C912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AB94C-7250-4C61-861B-A82EC805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5911C-F42E-4670-A1B7-39FDD441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EB149-5990-4A77-A084-4ED3D057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BA3D1-4D44-4AF2-B29A-2FC4CC79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49169-73EB-442C-9A88-B4ADE378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D958D-0211-4438-9FF8-6F7601B8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E4FB-6FE3-4F62-AD6B-EE7E9311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D48CE-DFF4-4DCC-941F-56EA0346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61E06-C9AF-4F63-9980-A9825052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63C62-2AA2-4777-A122-14C8BF9E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E3A07-84EE-48A5-BEB6-AD1B128A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80A82-9A5C-4964-9BF1-A697D676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73CDA-8997-43A8-A8E0-8AA9EA8D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4CC86-88E2-4A6D-B257-ADE45F03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AD272-7D13-4E15-97F5-9A3030ED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BEA1E-BFB7-48DF-AC30-A3858E25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1D78B-F139-4263-9884-028EFDF5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B9A9-5372-42D4-AC43-1616C310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8217F-9C1A-4BA3-AF09-24357B66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31214-5A3D-49BF-9489-E5A3D0C0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F02C5-F38F-4C90-934F-D178379D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7A359-B5BC-4E1F-9F76-E4BF413A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FF116-276D-4066-BDE5-8A95BC8B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5EB1A-10A5-4F90-BC58-FDEBAD01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8A8D3-72E2-489A-9F45-B8885AF0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23A65-D82E-4C9F-A851-EFC091C5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17AA2-8D73-4725-8F38-9698BA57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03E96-8E6D-4BBF-89D2-2B54BB02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9881-340F-4457-A386-DFE172CD725D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6A8B-AA25-4DEC-B97F-F9BF3556F9A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0280-44E6-4720-BEF0-37E43E0A127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9ACA-6F60-44FF-B9EB-3EBCA5BFF78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CDE1-5F32-4900-94F8-0B90EE94602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0D13-A936-4A55-ADFD-9BA158FC604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0B60-A18B-44EB-AB74-B51F747E6BE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1DD2-703E-44C7-A63D-2A55FDF2B9B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ECF8-E9EF-44C0-A878-85D933F2A98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2A63-D0D5-45BA-B69F-9456E882D7A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0D49-3823-4C43-99E2-F34EC4CA0D0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97AF-8FDD-40E6-BFCD-017E2A454D5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AA6C-615A-4B0E-913C-A372678EF52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3 Rectángulo"/>
          <p:cNvSpPr/>
          <p:nvPr/>
        </p:nvSpPr>
        <p:spPr>
          <a:xfrm>
            <a:off x="539640" y="549360"/>
            <a:ext cx="80647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olilla 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Metabolismo de los líp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</a:t>
            </a:r>
            <a:r>
              <a:rPr b="1" lang="es-AR" sz="2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Digestión y absorción de lípi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Transporte de lípid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Metabolismo del colesterol. Regulación molecula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Degradación y biosíntesis de los lípidos. Cuerpos cetónic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Esquema General de la Digestión Lipíd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Cuadro de texto 5"/>
          <p:cNvSpPr/>
          <p:nvPr/>
        </p:nvSpPr>
        <p:spPr>
          <a:xfrm>
            <a:off x="539640" y="1700280"/>
            <a:ext cx="7848720" cy="116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LIPIDO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 Triglicéridos, Fosfolípidos y Coleste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itaminas liposolubles (A, D, E, 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Cuadro de texto 6"/>
          <p:cNvSpPr/>
          <p:nvPr/>
        </p:nvSpPr>
        <p:spPr>
          <a:xfrm>
            <a:off x="3276720" y="3284640"/>
            <a:ext cx="2447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IPOL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Cuadro de texto 7"/>
          <p:cNvSpPr/>
          <p:nvPr/>
        </p:nvSpPr>
        <p:spPr>
          <a:xfrm>
            <a:off x="3059280" y="5589720"/>
            <a:ext cx="2808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BSOR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Línea 8"/>
          <p:cNvSpPr/>
          <p:nvPr/>
        </p:nvSpPr>
        <p:spPr>
          <a:xfrm>
            <a:off x="4572000" y="393372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Cuadro de texto 9"/>
          <p:cNvSpPr/>
          <p:nvPr/>
        </p:nvSpPr>
        <p:spPr>
          <a:xfrm>
            <a:off x="6012000" y="3579840"/>
            <a:ext cx="302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lice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noacilglicér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Ácidos grasos de cadena media y cor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Elipse 10"/>
          <p:cNvSpPr/>
          <p:nvPr/>
        </p:nvSpPr>
        <p:spPr>
          <a:xfrm>
            <a:off x="468360" y="3284640"/>
            <a:ext cx="1727280" cy="115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Enzi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Digestiv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Elipse 11"/>
          <p:cNvSpPr/>
          <p:nvPr/>
        </p:nvSpPr>
        <p:spPr>
          <a:xfrm>
            <a:off x="468360" y="4941720"/>
            <a:ext cx="1727280" cy="1152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Sa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Bili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23640" y="1980720"/>
            <a:ext cx="8569080" cy="449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OC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salival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poca activ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STÓMAG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Gástric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importante en niñ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TESTINO DEL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cret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Secreción de electrolitos y  líquidos  pancre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lecistoquin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acción Vesícula biliar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BI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NCREAS            Secreción de Enzi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Elipse 1028"/>
          <p:cNvSpPr/>
          <p:nvPr/>
        </p:nvSpPr>
        <p:spPr>
          <a:xfrm>
            <a:off x="468360" y="5229360"/>
            <a:ext cx="1152360" cy="54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int por c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uod y yeyun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Grupo 1031"/>
          <p:cNvGrpSpPr/>
          <p:nvPr/>
        </p:nvGrpSpPr>
        <p:grpSpPr>
          <a:xfrm>
            <a:off x="4140360" y="3716280"/>
            <a:ext cx="574560" cy="792000"/>
            <a:chOff x="4140360" y="3716280"/>
            <a:chExt cx="574560" cy="792000"/>
          </a:xfrm>
        </p:grpSpPr>
        <p:sp>
          <p:nvSpPr>
            <p:cNvPr id="558" name="Línea 6"/>
            <p:cNvSpPr/>
            <p:nvPr/>
          </p:nvSpPr>
          <p:spPr>
            <a:xfrm flipV="1">
              <a:off x="4140360" y="3716280"/>
              <a:ext cx="50292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ínea 7"/>
            <p:cNvSpPr/>
            <p:nvPr/>
          </p:nvSpPr>
          <p:spPr>
            <a:xfrm>
              <a:off x="4211640" y="4219560"/>
              <a:ext cx="50328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Línea 8"/>
          <p:cNvSpPr/>
          <p:nvPr/>
        </p:nvSpPr>
        <p:spPr>
          <a:xfrm>
            <a:off x="2771640" y="59500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Línea 9"/>
          <p:cNvSpPr/>
          <p:nvPr/>
        </p:nvSpPr>
        <p:spPr>
          <a:xfrm>
            <a:off x="1908000" y="515628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Línea 10"/>
          <p:cNvSpPr/>
          <p:nvPr/>
        </p:nvSpPr>
        <p:spPr>
          <a:xfrm>
            <a:off x="6516720" y="587376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Línea 1032"/>
          <p:cNvSpPr/>
          <p:nvPr/>
        </p:nvSpPr>
        <p:spPr>
          <a:xfrm>
            <a:off x="5292720" y="6308640"/>
            <a:ext cx="550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Línea 1033"/>
          <p:cNvSpPr/>
          <p:nvPr/>
        </p:nvSpPr>
        <p:spPr>
          <a:xfrm>
            <a:off x="2700360" y="6093000"/>
            <a:ext cx="64764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Cuadro de texto 1036"/>
          <p:cNvSpPr/>
          <p:nvPr/>
        </p:nvSpPr>
        <p:spPr>
          <a:xfrm>
            <a:off x="4788000" y="3284640"/>
            <a:ext cx="18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ipasa Pancreá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Cuadro de texto 1038"/>
          <p:cNvSpPr/>
          <p:nvPr/>
        </p:nvSpPr>
        <p:spPr>
          <a:xfrm>
            <a:off x="4859280" y="436572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ales bili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Imagen 2" descr=""/>
          <p:cNvPicPr/>
          <p:nvPr/>
        </p:nvPicPr>
        <p:blipFill>
          <a:blip r:embed="rId2"/>
          <a:stretch/>
        </p:blipFill>
        <p:spPr>
          <a:xfrm>
            <a:off x="681120" y="549360"/>
            <a:ext cx="792468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 Rounded MT Bold"/>
              </a:rPr>
              <a:t>Función de las sales bilia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 Rounded MT Bold"/>
              </a:rPr>
              <a:t>Actúan como deterg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Disminuyen la tensión superficial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emulsión de grasas 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formación de partículas coloidales 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 u="sng">
                <a:solidFill>
                  <a:srgbClr val="000000"/>
                </a:solidFill>
                <a:uFillTx/>
                <a:latin typeface="Arial Rounded MT Bold"/>
              </a:rPr>
              <a:t>MICELAS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Favorecen la acción de la lip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Favorecen la absorción de vitamin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Acción colerética (estimulan la producción de bil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ángulo 20"/>
          <p:cNvSpPr/>
          <p:nvPr/>
        </p:nvSpPr>
        <p:spPr>
          <a:xfrm>
            <a:off x="5292720" y="1916280"/>
            <a:ext cx="38512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Rounded MT Bold"/>
              </a:rPr>
              <a:t>Sales biliares y emulsión de gra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Cuadro de texto 6"/>
          <p:cNvSpPr/>
          <p:nvPr/>
        </p:nvSpPr>
        <p:spPr>
          <a:xfrm>
            <a:off x="900000" y="24210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upo 19"/>
          <p:cNvGrpSpPr/>
          <p:nvPr/>
        </p:nvGrpSpPr>
        <p:grpSpPr>
          <a:xfrm>
            <a:off x="468360" y="1916280"/>
            <a:ext cx="8675640" cy="3893760"/>
            <a:chOff x="468360" y="1916280"/>
            <a:chExt cx="8675640" cy="3893760"/>
          </a:xfrm>
        </p:grpSpPr>
        <p:pic>
          <p:nvPicPr>
            <p:cNvPr id="575" name="Imagen 3" descr="fi18p4"/>
            <p:cNvPicPr/>
            <p:nvPr/>
          </p:nvPicPr>
          <p:blipFill>
            <a:blip r:embed="rId1"/>
            <a:stretch/>
          </p:blipFill>
          <p:spPr>
            <a:xfrm>
              <a:off x="468360" y="2205000"/>
              <a:ext cx="849780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Cuadro de texto 7"/>
            <p:cNvSpPr/>
            <p:nvPr/>
          </p:nvSpPr>
          <p:spPr>
            <a:xfrm>
              <a:off x="826920" y="450864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do cólic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Cuadro de texto 8"/>
            <p:cNvSpPr/>
            <p:nvPr/>
          </p:nvSpPr>
          <p:spPr>
            <a:xfrm>
              <a:off x="1403280" y="256536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e hidrofób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Cuadro de texto 9"/>
            <p:cNvSpPr/>
            <p:nvPr/>
          </p:nvSpPr>
          <p:spPr>
            <a:xfrm>
              <a:off x="4067280" y="4437000"/>
              <a:ext cx="15127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e hidrofíl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Cuadro de texto 10"/>
            <p:cNvSpPr/>
            <p:nvPr/>
          </p:nvSpPr>
          <p:spPr>
            <a:xfrm>
              <a:off x="4140360" y="3429000"/>
              <a:ext cx="115236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ociac. con T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Cuadro de texto 11"/>
            <p:cNvSpPr/>
            <p:nvPr/>
          </p:nvSpPr>
          <p:spPr>
            <a:xfrm>
              <a:off x="2340000" y="5229360"/>
              <a:ext cx="187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Cuadro de texto 12"/>
            <p:cNvSpPr/>
            <p:nvPr/>
          </p:nvSpPr>
          <p:spPr>
            <a:xfrm>
              <a:off x="6084720" y="5229360"/>
              <a:ext cx="13669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CEL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Cuadro de texto 13"/>
            <p:cNvSpPr/>
            <p:nvPr/>
          </p:nvSpPr>
          <p:spPr>
            <a:xfrm>
              <a:off x="5364000" y="230040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Cuadro de texto 14"/>
            <p:cNvSpPr/>
            <p:nvPr/>
          </p:nvSpPr>
          <p:spPr>
            <a:xfrm>
              <a:off x="7451640" y="191628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ncreát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Cuadro de texto 15"/>
            <p:cNvSpPr/>
            <p:nvPr/>
          </p:nvSpPr>
          <p:spPr>
            <a:xfrm>
              <a:off x="7631280" y="2587680"/>
              <a:ext cx="15127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acilglicero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Cuadro de texto 16"/>
            <p:cNvSpPr/>
            <p:nvPr/>
          </p:nvSpPr>
          <p:spPr>
            <a:xfrm>
              <a:off x="7740720" y="3860640"/>
              <a:ext cx="122400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gestión </a:t>
              </a: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Cuadro de texto 17"/>
            <p:cNvSpPr/>
            <p:nvPr/>
          </p:nvSpPr>
          <p:spPr>
            <a:xfrm>
              <a:off x="7524720" y="5229360"/>
              <a:ext cx="9349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DO GRAS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7" name="Cuadro de texto 18"/>
          <p:cNvSpPr/>
          <p:nvPr/>
        </p:nvSpPr>
        <p:spPr>
          <a:xfrm>
            <a:off x="395280" y="5877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olipas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Péptido que forma complejo con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ip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3 Rectángulo"/>
          <p:cNvSpPr/>
          <p:nvPr/>
        </p:nvSpPr>
        <p:spPr>
          <a:xfrm>
            <a:off x="415800" y="404640"/>
            <a:ext cx="8496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aceites contienen una considerable cantidad d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ácidos grasos in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como los ÁCIDOS OLEICO Y LINOLEICO, que tienden a ser líquidos a temperatura corporal, se absorben con relativa facil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ientras que los lípidos que contienen mayoritariament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ácidos grasos 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como los ÁCIDOS PALMÍTICO Y ESTEÁRICO, se digieren y absorben más lentam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productos de digestión de las grasas están constituidos por una mezcla 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glicerol, ácidos grasos libres y  monoacilgliceroles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enos del 10% de los triglicéridos originales permanecen sin hidroliz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Rounded MT Bold"/>
              </a:rPr>
              <a:t>Enzimas Digestivas: </a:t>
            </a:r>
            <a:r>
              <a:rPr b="1" i="1" lang="es-ES" sz="3600" spc="-1" strike="noStrike">
                <a:solidFill>
                  <a:srgbClr val="000000"/>
                </a:solidFill>
                <a:latin typeface="Arial Rounded MT Bold"/>
              </a:rPr>
              <a:t>LIPA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569080" cy="4464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-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 lipasa</a:t>
            </a:r>
            <a:r>
              <a:rPr b="0" lang="es-ES" sz="2400" spc="-1" strike="noStrike">
                <a:solidFill>
                  <a:srgbClr val="ff3300"/>
                </a:solidFill>
                <a:latin typeface="Arial Rounded MT Bold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</a:t>
            </a:r>
            <a:r>
              <a:rPr b="0" lang="es-ES" sz="2400" spc="-1" strike="noStrike">
                <a:solidFill>
                  <a:srgbClr val="ff3300"/>
                </a:solidFill>
                <a:latin typeface="Arial Rounded MT Bold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taca uniones éster de posición 1 y 3 de los TG dejando monoglicéridos esterificados en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Esterasa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Hidroliza la unión 2 del monoglicéri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osfolipasa A</a:t>
            </a:r>
            <a:r>
              <a:rPr b="1" i="1" lang="es-ES" sz="2400" spc="-1" strike="noStrike" u="sng" baseline="-25000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Actúa sobre el C 2 de lecit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osfatasa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Hidroliza unión fosfato de lisolecit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Colesterol esterasa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Actúa sobre ésteres de coleste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1" name="Grupo 1033"/>
          <p:cNvGrpSpPr/>
          <p:nvPr/>
        </p:nvGrpSpPr>
        <p:grpSpPr>
          <a:xfrm>
            <a:off x="684360" y="1628640"/>
            <a:ext cx="7777080" cy="825480"/>
            <a:chOff x="684360" y="1628640"/>
            <a:chExt cx="7777080" cy="825480"/>
          </a:xfrm>
        </p:grpSpPr>
        <p:sp>
          <p:nvSpPr>
            <p:cNvPr id="592" name="Cuadro de texto 1031"/>
            <p:cNvSpPr/>
            <p:nvPr/>
          </p:nvSpPr>
          <p:spPr>
            <a:xfrm>
              <a:off x="684360" y="1628640"/>
              <a:ext cx="7777080" cy="82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GLICERIDOS               GLICEROL  +  AC. GRA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Línea 1032"/>
            <p:cNvSpPr/>
            <p:nvPr/>
          </p:nvSpPr>
          <p:spPr>
            <a:xfrm>
              <a:off x="3419640" y="1844640"/>
              <a:ext cx="792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ángulo 109"/>
          <p:cNvSpPr/>
          <p:nvPr/>
        </p:nvSpPr>
        <p:spPr>
          <a:xfrm rot="16200000">
            <a:off x="7661880" y="439416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sos Lib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Línea 58"/>
          <p:cNvSpPr/>
          <p:nvPr/>
        </p:nvSpPr>
        <p:spPr>
          <a:xfrm>
            <a:off x="6354720" y="3782880"/>
            <a:ext cx="0" cy="14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Línea 66"/>
          <p:cNvSpPr/>
          <p:nvPr/>
        </p:nvSpPr>
        <p:spPr>
          <a:xfrm>
            <a:off x="6353280" y="5370480"/>
            <a:ext cx="0" cy="139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Línea 67"/>
          <p:cNvSpPr/>
          <p:nvPr/>
        </p:nvSpPr>
        <p:spPr>
          <a:xfrm>
            <a:off x="6469200" y="5268960"/>
            <a:ext cx="1220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Línea 70"/>
          <p:cNvSpPr/>
          <p:nvPr/>
        </p:nvSpPr>
        <p:spPr>
          <a:xfrm>
            <a:off x="6130800" y="526572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Línea 72"/>
          <p:cNvSpPr/>
          <p:nvPr/>
        </p:nvSpPr>
        <p:spPr>
          <a:xfrm>
            <a:off x="6124680" y="399240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0" name="Grupo 136"/>
          <p:cNvGrpSpPr/>
          <p:nvPr/>
        </p:nvGrpSpPr>
        <p:grpSpPr>
          <a:xfrm>
            <a:off x="7020000" y="3003480"/>
            <a:ext cx="2116440" cy="820080"/>
            <a:chOff x="7020000" y="3003480"/>
            <a:chExt cx="2116440" cy="820080"/>
          </a:xfrm>
        </p:grpSpPr>
        <p:grpSp>
          <p:nvGrpSpPr>
            <p:cNvPr id="601" name="Grupo 135"/>
            <p:cNvGrpSpPr/>
            <p:nvPr/>
          </p:nvGrpSpPr>
          <p:grpSpPr>
            <a:xfrm>
              <a:off x="7020000" y="3003480"/>
              <a:ext cx="2116440" cy="820080"/>
              <a:chOff x="7020000" y="3003480"/>
              <a:chExt cx="2116440" cy="820080"/>
            </a:xfrm>
          </p:grpSpPr>
          <p:grpSp>
            <p:nvGrpSpPr>
              <p:cNvPr id="602" name="Grupo 134"/>
              <p:cNvGrpSpPr/>
              <p:nvPr/>
            </p:nvGrpSpPr>
            <p:grpSpPr>
              <a:xfrm>
                <a:off x="7020000" y="3003480"/>
                <a:ext cx="1701720" cy="795960"/>
                <a:chOff x="7020000" y="3003480"/>
                <a:chExt cx="1701720" cy="795960"/>
              </a:xfrm>
            </p:grpSpPr>
            <p:sp>
              <p:nvSpPr>
                <p:cNvPr id="603" name="Rectángulo 56"/>
                <p:cNvSpPr/>
                <p:nvPr/>
              </p:nvSpPr>
              <p:spPr>
                <a:xfrm>
                  <a:off x="7020000" y="3438360"/>
                  <a:ext cx="533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4" name="Rectángulo 75"/>
                <p:cNvSpPr/>
                <p:nvPr/>
              </p:nvSpPr>
              <p:spPr>
                <a:xfrm>
                  <a:off x="7542000" y="3431880"/>
                  <a:ext cx="32688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5" name="Rectángulo 76"/>
                <p:cNvSpPr/>
                <p:nvPr/>
              </p:nvSpPr>
              <p:spPr>
                <a:xfrm>
                  <a:off x="7853400" y="3428640"/>
                  <a:ext cx="8683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6" name="Rectángulo 81"/>
                <p:cNvSpPr/>
                <p:nvPr/>
              </p:nvSpPr>
              <p:spPr>
                <a:xfrm>
                  <a:off x="7524720" y="3003480"/>
                  <a:ext cx="2826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7" name="Línea 77"/>
                <p:cNvSpPr/>
                <p:nvPr/>
              </p:nvSpPr>
              <p:spPr>
                <a:xfrm>
                  <a:off x="7835760" y="3573360"/>
                  <a:ext cx="12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8" name="Línea 78"/>
                <p:cNvSpPr/>
                <p:nvPr/>
              </p:nvSpPr>
              <p:spPr>
                <a:xfrm>
                  <a:off x="7424640" y="356544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9" name="Línea 79"/>
                <p:cNvSpPr/>
                <p:nvPr/>
              </p:nvSpPr>
              <p:spPr>
                <a:xfrm>
                  <a:off x="7667640" y="3322440"/>
                  <a:ext cx="144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0" name="Línea 80"/>
                <p:cNvSpPr/>
                <p:nvPr/>
              </p:nvSpPr>
              <p:spPr>
                <a:xfrm>
                  <a:off x="7723080" y="3321000"/>
                  <a:ext cx="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1" name="Rectángulo 83"/>
              <p:cNvSpPr/>
              <p:nvPr/>
            </p:nvSpPr>
            <p:spPr>
              <a:xfrm>
                <a:off x="8597520" y="3452760"/>
                <a:ext cx="538920" cy="37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2" name="Línea 82"/>
            <p:cNvSpPr/>
            <p:nvPr/>
          </p:nvSpPr>
          <p:spPr>
            <a:xfrm>
              <a:off x="8483760" y="358128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Línea 91"/>
          <p:cNvSpPr/>
          <p:nvPr/>
        </p:nvSpPr>
        <p:spPr>
          <a:xfrm>
            <a:off x="7818480" y="4632480"/>
            <a:ext cx="123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ángulo 107"/>
          <p:cNvSpPr/>
          <p:nvPr/>
        </p:nvSpPr>
        <p:spPr>
          <a:xfrm>
            <a:off x="3277080" y="4149720"/>
            <a:ext cx="14608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p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creá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 6-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Cuadro de texto 110"/>
          <p:cNvSpPr/>
          <p:nvPr/>
        </p:nvSpPr>
        <p:spPr>
          <a:xfrm>
            <a:off x="395280" y="303120"/>
            <a:ext cx="8353440" cy="10263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Lipólisis de Triglicéridos p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Acción de </a:t>
            </a:r>
            <a:r>
              <a:rPr b="1" i="1" lang="en-US" sz="3600" spc="-1" strike="noStrike">
                <a:solidFill>
                  <a:srgbClr val="000000"/>
                </a:solidFill>
                <a:latin typeface="Arial Rounded MT Bold"/>
              </a:rPr>
              <a:t>Lipasa Pancreá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ángulo 112"/>
          <p:cNvSpPr/>
          <p:nvPr/>
        </p:nvSpPr>
        <p:spPr>
          <a:xfrm>
            <a:off x="6348960" y="6323040"/>
            <a:ext cx="198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bles en micel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Cuadro de texto 114"/>
          <p:cNvSpPr/>
          <p:nvPr/>
        </p:nvSpPr>
        <p:spPr>
          <a:xfrm>
            <a:off x="4427640" y="314172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ángulo 111"/>
          <p:cNvSpPr/>
          <p:nvPr/>
        </p:nvSpPr>
        <p:spPr>
          <a:xfrm>
            <a:off x="1042200" y="6308640"/>
            <a:ext cx="2125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olubles en micel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Rectángulo 132"/>
          <p:cNvSpPr/>
          <p:nvPr/>
        </p:nvSpPr>
        <p:spPr>
          <a:xfrm>
            <a:off x="4650840" y="5589720"/>
            <a:ext cx="187236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glicéri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Línea 133"/>
          <p:cNvSpPr/>
          <p:nvPr/>
        </p:nvSpPr>
        <p:spPr>
          <a:xfrm>
            <a:off x="3348000" y="494172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Grupo 138"/>
          <p:cNvGrpSpPr/>
          <p:nvPr/>
        </p:nvGrpSpPr>
        <p:grpSpPr>
          <a:xfrm>
            <a:off x="7051680" y="5373720"/>
            <a:ext cx="2046600" cy="724680"/>
            <a:chOff x="7051680" y="5373720"/>
            <a:chExt cx="2046600" cy="724680"/>
          </a:xfrm>
        </p:grpSpPr>
        <p:grpSp>
          <p:nvGrpSpPr>
            <p:cNvPr id="622" name="Grupo 137"/>
            <p:cNvGrpSpPr/>
            <p:nvPr/>
          </p:nvGrpSpPr>
          <p:grpSpPr>
            <a:xfrm>
              <a:off x="7051680" y="5373720"/>
              <a:ext cx="2046600" cy="724680"/>
              <a:chOff x="7051680" y="5373720"/>
              <a:chExt cx="2046600" cy="724680"/>
            </a:xfrm>
          </p:grpSpPr>
          <p:grpSp>
            <p:nvGrpSpPr>
              <p:cNvPr id="623" name="Grupo 131"/>
              <p:cNvGrpSpPr/>
              <p:nvPr/>
            </p:nvGrpSpPr>
            <p:grpSpPr>
              <a:xfrm>
                <a:off x="7051680" y="5373720"/>
                <a:ext cx="2046600" cy="724680"/>
                <a:chOff x="7051680" y="5373720"/>
                <a:chExt cx="2046600" cy="724680"/>
              </a:xfrm>
            </p:grpSpPr>
            <p:sp>
              <p:nvSpPr>
                <p:cNvPr id="624" name="Rectángulo 74"/>
                <p:cNvSpPr/>
                <p:nvPr/>
              </p:nvSpPr>
              <p:spPr>
                <a:xfrm>
                  <a:off x="7051680" y="5682960"/>
                  <a:ext cx="6858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5" name="Rectángulo 94"/>
                <p:cNvSpPr/>
                <p:nvPr/>
              </p:nvSpPr>
              <p:spPr>
                <a:xfrm>
                  <a:off x="7804080" y="5697360"/>
                  <a:ext cx="8035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tángulo 99"/>
                <p:cNvSpPr/>
                <p:nvPr/>
              </p:nvSpPr>
              <p:spPr>
                <a:xfrm>
                  <a:off x="7513560" y="5373720"/>
                  <a:ext cx="281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Rectángulo 101"/>
                <p:cNvSpPr/>
                <p:nvPr/>
              </p:nvSpPr>
              <p:spPr>
                <a:xfrm>
                  <a:off x="8559360" y="5727600"/>
                  <a:ext cx="5389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8" name="Rectángulo 93"/>
              <p:cNvSpPr/>
              <p:nvPr/>
            </p:nvSpPr>
            <p:spPr>
              <a:xfrm>
                <a:off x="7505640" y="5681520"/>
                <a:ext cx="326880" cy="3373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Línea 100"/>
              <p:cNvSpPr/>
              <p:nvPr/>
            </p:nvSpPr>
            <p:spPr>
              <a:xfrm>
                <a:off x="8488440" y="58528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0" name="Línea 95"/>
            <p:cNvSpPr/>
            <p:nvPr/>
          </p:nvSpPr>
          <p:spPr>
            <a:xfrm>
              <a:off x="7746840" y="584352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Línea 96"/>
            <p:cNvSpPr/>
            <p:nvPr/>
          </p:nvSpPr>
          <p:spPr>
            <a:xfrm>
              <a:off x="7462800" y="583560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Línea 97"/>
            <p:cNvSpPr/>
            <p:nvPr/>
          </p:nvSpPr>
          <p:spPr>
            <a:xfrm>
              <a:off x="7648560" y="5628960"/>
              <a:ext cx="144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Línea 98"/>
            <p:cNvSpPr/>
            <p:nvPr/>
          </p:nvSpPr>
          <p:spPr>
            <a:xfrm>
              <a:off x="7704000" y="5627520"/>
              <a:ext cx="0" cy="12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4" name="Rectángulo 151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Grupo 155"/>
          <p:cNvGrpSpPr/>
          <p:nvPr/>
        </p:nvGrpSpPr>
        <p:grpSpPr>
          <a:xfrm>
            <a:off x="4859280" y="3860640"/>
            <a:ext cx="2780280" cy="1618200"/>
            <a:chOff x="4859280" y="3860640"/>
            <a:chExt cx="2780280" cy="1618200"/>
          </a:xfrm>
        </p:grpSpPr>
        <p:grpSp>
          <p:nvGrpSpPr>
            <p:cNvPr id="636" name="Grupo 153"/>
            <p:cNvGrpSpPr/>
            <p:nvPr/>
          </p:nvGrpSpPr>
          <p:grpSpPr>
            <a:xfrm>
              <a:off x="4859280" y="3860640"/>
              <a:ext cx="2780280" cy="1618200"/>
              <a:chOff x="4859280" y="3860640"/>
              <a:chExt cx="2780280" cy="1618200"/>
            </a:xfrm>
          </p:grpSpPr>
          <p:grpSp>
            <p:nvGrpSpPr>
              <p:cNvPr id="637" name="Grupo 150"/>
              <p:cNvGrpSpPr/>
              <p:nvPr/>
            </p:nvGrpSpPr>
            <p:grpSpPr>
              <a:xfrm>
                <a:off x="4859280" y="3860640"/>
                <a:ext cx="2780280" cy="1618200"/>
                <a:chOff x="4859280" y="3860640"/>
                <a:chExt cx="2780280" cy="1618200"/>
              </a:xfrm>
            </p:grpSpPr>
            <p:grpSp>
              <p:nvGrpSpPr>
                <p:cNvPr id="638" name="Grupo 141"/>
                <p:cNvGrpSpPr/>
                <p:nvPr/>
              </p:nvGrpSpPr>
              <p:grpSpPr>
                <a:xfrm>
                  <a:off x="4859280" y="3860640"/>
                  <a:ext cx="2780280" cy="1618200"/>
                  <a:chOff x="4859280" y="3860640"/>
                  <a:chExt cx="2780280" cy="1618200"/>
                </a:xfrm>
              </p:grpSpPr>
              <p:grpSp>
                <p:nvGrpSpPr>
                  <p:cNvPr id="639" name="Grupo 140"/>
                  <p:cNvGrpSpPr/>
                  <p:nvPr/>
                </p:nvGrpSpPr>
                <p:grpSpPr>
                  <a:xfrm>
                    <a:off x="4859280" y="3860640"/>
                    <a:ext cx="2780280" cy="1618200"/>
                    <a:chOff x="4859280" y="3860640"/>
                    <a:chExt cx="2780280" cy="1618200"/>
                  </a:xfrm>
                </p:grpSpPr>
                <p:grpSp>
                  <p:nvGrpSpPr>
                    <p:cNvPr id="640" name="Grupo 139"/>
                    <p:cNvGrpSpPr/>
                    <p:nvPr/>
                  </p:nvGrpSpPr>
                  <p:grpSpPr>
                    <a:xfrm>
                      <a:off x="4859280" y="3860640"/>
                      <a:ext cx="2780280" cy="1618200"/>
                      <a:chOff x="4859280" y="3860640"/>
                      <a:chExt cx="2780280" cy="1618200"/>
                    </a:xfrm>
                  </p:grpSpPr>
                  <p:sp>
                    <p:nvSpPr>
                      <p:cNvPr id="641" name="Rectángulo 55"/>
                      <p:cNvSpPr/>
                      <p:nvPr/>
                    </p:nvSpPr>
                    <p:spPr>
                      <a:xfrm>
                        <a:off x="5183280" y="38682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2" name="Rectángulo 57"/>
                      <p:cNvSpPr/>
                      <p:nvPr/>
                    </p:nvSpPr>
                    <p:spPr>
                      <a:xfrm>
                        <a:off x="4859280" y="443664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3" name="Rectángulo 84"/>
                      <p:cNvSpPr/>
                      <p:nvPr/>
                    </p:nvSpPr>
                    <p:spPr>
                      <a:xfrm>
                        <a:off x="5891040" y="44604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4" name="Rectángulo 85"/>
                      <p:cNvSpPr/>
                      <p:nvPr/>
                    </p:nvSpPr>
                    <p:spPr>
                      <a:xfrm>
                        <a:off x="6300720" y="4460400"/>
                        <a:ext cx="8683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(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)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5" name="Rectángulo 90"/>
                      <p:cNvSpPr/>
                      <p:nvPr/>
                    </p:nvSpPr>
                    <p:spPr>
                      <a:xfrm>
                        <a:off x="5867280" y="4122360"/>
                        <a:ext cx="3160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6" name="Rectángulo 92"/>
                      <p:cNvSpPr/>
                      <p:nvPr/>
                    </p:nvSpPr>
                    <p:spPr>
                      <a:xfrm>
                        <a:off x="7100640" y="4460400"/>
                        <a:ext cx="5389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7" name="Rectángulo 103"/>
                      <p:cNvSpPr/>
                      <p:nvPr/>
                    </p:nvSpPr>
                    <p:spPr>
                      <a:xfrm>
                        <a:off x="4916160" y="5084280"/>
                        <a:ext cx="3103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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8" name="Rectángulo 106"/>
                      <p:cNvSpPr/>
                      <p:nvPr/>
                    </p:nvSpPr>
                    <p:spPr>
                      <a:xfrm>
                        <a:off x="5435640" y="5108040"/>
                        <a:ext cx="43164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9" name="Rectángulo 54"/>
                      <p:cNvSpPr/>
                      <p:nvPr/>
                    </p:nvSpPr>
                    <p:spPr>
                      <a:xfrm>
                        <a:off x="5148360" y="4436640"/>
                        <a:ext cx="33012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0" name="Línea 59"/>
                      <p:cNvSpPr/>
                      <p:nvPr/>
                    </p:nvSpPr>
                    <p:spPr>
                      <a:xfrm>
                        <a:off x="5292720" y="4149360"/>
                        <a:ext cx="0" cy="3693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1" name="Línea 68"/>
                      <p:cNvSpPr/>
                      <p:nvPr/>
                    </p:nvSpPr>
                    <p:spPr>
                      <a:xfrm>
                        <a:off x="5292720" y="4723920"/>
                        <a:ext cx="0" cy="36972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2" name="Línea 87"/>
                      <p:cNvSpPr/>
                      <p:nvPr/>
                    </p:nvSpPr>
                    <p:spPr>
                      <a:xfrm>
                        <a:off x="7020000" y="467640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3" name="Línea 86"/>
                      <p:cNvSpPr/>
                      <p:nvPr/>
                    </p:nvSpPr>
                    <p:spPr>
                      <a:xfrm>
                        <a:off x="6156360" y="465264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4" name="Rectángulo 73"/>
                      <p:cNvSpPr/>
                      <p:nvPr/>
                    </p:nvSpPr>
                    <p:spPr>
                      <a:xfrm>
                        <a:off x="5508720" y="4436640"/>
                        <a:ext cx="28080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5" name="Rectángulo 105"/>
                      <p:cNvSpPr/>
                      <p:nvPr/>
                    </p:nvSpPr>
                    <p:spPr>
                      <a:xfrm>
                        <a:off x="5435640" y="3860640"/>
                        <a:ext cx="4381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56" name="Rectángulo 102"/>
                    <p:cNvSpPr/>
                    <p:nvPr/>
                  </p:nvSpPr>
                  <p:spPr>
                    <a:xfrm>
                      <a:off x="5364000" y="4076280"/>
                      <a:ext cx="301680" cy="368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7" name="Rectángulo 104"/>
                    <p:cNvSpPr/>
                    <p:nvPr/>
                  </p:nvSpPr>
                  <p:spPr>
                    <a:xfrm>
                      <a:off x="5294160" y="4676400"/>
                      <a:ext cx="2919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8" name="Línea 61"/>
                    <p:cNvSpPr/>
                    <p:nvPr/>
                  </p:nvSpPr>
                  <p:spPr>
                    <a:xfrm>
                      <a:off x="5796000" y="465264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9" name="Línea 88"/>
                    <p:cNvSpPr/>
                    <p:nvPr/>
                  </p:nvSpPr>
                  <p:spPr>
                    <a:xfrm>
                      <a:off x="6012000" y="4365360"/>
                      <a:ext cx="1440" cy="121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60" name="Línea 89"/>
                    <p:cNvSpPr/>
                    <p:nvPr/>
                  </p:nvSpPr>
                  <p:spPr>
                    <a:xfrm>
                      <a:off x="6067440" y="4376520"/>
                      <a:ext cx="0" cy="121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61" name="Línea 60"/>
                    <p:cNvSpPr/>
                    <p:nvPr/>
                  </p:nvSpPr>
                  <p:spPr>
                    <a:xfrm>
                      <a:off x="5435640" y="465264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662" name="Rectángulo 64"/>
                  <p:cNvSpPr/>
                  <p:nvPr/>
                </p:nvSpPr>
                <p:spPr>
                  <a:xfrm>
                    <a:off x="5170320" y="511632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663" name="Rectángulo 149"/>
                <p:cNvSpPr/>
                <p:nvPr/>
              </p:nvSpPr>
              <p:spPr>
                <a:xfrm>
                  <a:off x="4932360" y="5092560"/>
                  <a:ext cx="287280" cy="360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4" name="Rectángulo 152"/>
              <p:cNvSpPr/>
              <p:nvPr/>
            </p:nvSpPr>
            <p:spPr>
              <a:xfrm>
                <a:off x="5364000" y="4732200"/>
                <a:ext cx="216000" cy="28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5" name="Rectángulo 154"/>
            <p:cNvSpPr/>
            <p:nvPr/>
          </p:nvSpPr>
          <p:spPr>
            <a:xfrm>
              <a:off x="5364000" y="4228920"/>
              <a:ext cx="28764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6" name="Grupo 178"/>
          <p:cNvGrpSpPr/>
          <p:nvPr/>
        </p:nvGrpSpPr>
        <p:grpSpPr>
          <a:xfrm>
            <a:off x="250920" y="2997360"/>
            <a:ext cx="2705400" cy="3148200"/>
            <a:chOff x="250920" y="2997360"/>
            <a:chExt cx="2705400" cy="3148200"/>
          </a:xfrm>
        </p:grpSpPr>
        <p:sp>
          <p:nvSpPr>
            <p:cNvPr id="667" name="Rectángulo 47"/>
            <p:cNvSpPr/>
            <p:nvPr/>
          </p:nvSpPr>
          <p:spPr>
            <a:xfrm>
              <a:off x="1227240" y="4317840"/>
              <a:ext cx="280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8" name="Grupo 177"/>
            <p:cNvGrpSpPr/>
            <p:nvPr/>
          </p:nvGrpSpPr>
          <p:grpSpPr>
            <a:xfrm>
              <a:off x="250920" y="2997360"/>
              <a:ext cx="2705400" cy="3148200"/>
              <a:chOff x="250920" y="2997360"/>
              <a:chExt cx="2705400" cy="3148200"/>
            </a:xfrm>
          </p:grpSpPr>
          <p:sp>
            <p:nvSpPr>
              <p:cNvPr id="669" name="Rectángulo 49"/>
              <p:cNvSpPr/>
              <p:nvPr/>
            </p:nvSpPr>
            <p:spPr>
              <a:xfrm>
                <a:off x="2417400" y="4579920"/>
                <a:ext cx="5389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Rectángulo 163"/>
              <p:cNvSpPr/>
              <p:nvPr/>
            </p:nvSpPr>
            <p:spPr>
              <a:xfrm>
                <a:off x="1617840" y="4579920"/>
                <a:ext cx="8683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Línea 164"/>
              <p:cNvSpPr/>
              <p:nvPr/>
            </p:nvSpPr>
            <p:spPr>
              <a:xfrm>
                <a:off x="2289240" y="4724280"/>
                <a:ext cx="120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72" name="Grupo 176"/>
              <p:cNvGrpSpPr/>
              <p:nvPr/>
            </p:nvGrpSpPr>
            <p:grpSpPr>
              <a:xfrm>
                <a:off x="250920" y="2997360"/>
                <a:ext cx="2705400" cy="3148200"/>
                <a:chOff x="250920" y="2997360"/>
                <a:chExt cx="2705400" cy="3148200"/>
              </a:xfrm>
            </p:grpSpPr>
            <p:sp>
              <p:nvSpPr>
                <p:cNvPr id="673" name="Rectángulo 13"/>
                <p:cNvSpPr/>
                <p:nvPr/>
              </p:nvSpPr>
              <p:spPr>
                <a:xfrm>
                  <a:off x="574560" y="49622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Rectángulo 12"/>
                <p:cNvSpPr/>
                <p:nvPr/>
              </p:nvSpPr>
              <p:spPr>
                <a:xfrm>
                  <a:off x="561960" y="461808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5" name="Línea 14"/>
                <p:cNvSpPr/>
                <p:nvPr/>
              </p:nvSpPr>
              <p:spPr>
                <a:xfrm>
                  <a:off x="736560" y="4878360"/>
                  <a:ext cx="0" cy="139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6" name="Rectángulo 17"/>
                <p:cNvSpPr/>
                <p:nvPr/>
              </p:nvSpPr>
              <p:spPr>
                <a:xfrm>
                  <a:off x="258840" y="46274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7" name="Línea 18"/>
                <p:cNvSpPr/>
                <p:nvPr/>
              </p:nvSpPr>
              <p:spPr>
                <a:xfrm>
                  <a:off x="514440" y="477360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8" name="Rectángulo 22"/>
                <p:cNvSpPr/>
                <p:nvPr/>
              </p:nvSpPr>
              <p:spPr>
                <a:xfrm>
                  <a:off x="952560" y="4626000"/>
                  <a:ext cx="28260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9" name="Rectángulo 41"/>
                <p:cNvSpPr/>
                <p:nvPr/>
              </p:nvSpPr>
              <p:spPr>
                <a:xfrm>
                  <a:off x="1218960" y="462420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0" name="Línea 43"/>
                <p:cNvSpPr/>
                <p:nvPr/>
              </p:nvSpPr>
              <p:spPr>
                <a:xfrm>
                  <a:off x="1460520" y="478620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1" name="Línea 15"/>
                <p:cNvSpPr/>
                <p:nvPr/>
              </p:nvSpPr>
              <p:spPr>
                <a:xfrm>
                  <a:off x="838080" y="4768920"/>
                  <a:ext cx="122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2" name="Línea 46"/>
                <p:cNvSpPr/>
                <p:nvPr/>
              </p:nvSpPr>
              <p:spPr>
                <a:xfrm>
                  <a:off x="1417680" y="4591080"/>
                  <a:ext cx="0" cy="12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83" name="Grupo 170"/>
                <p:cNvGrpSpPr/>
                <p:nvPr/>
              </p:nvGrpSpPr>
              <p:grpSpPr>
                <a:xfrm>
                  <a:off x="250920" y="2997360"/>
                  <a:ext cx="2705400" cy="3148200"/>
                  <a:chOff x="250920" y="2997360"/>
                  <a:chExt cx="2705400" cy="3148200"/>
                </a:xfrm>
              </p:grpSpPr>
              <p:sp>
                <p:nvSpPr>
                  <p:cNvPr id="684" name="Rectángulo 40"/>
                  <p:cNvSpPr/>
                  <p:nvPr/>
                </p:nvSpPr>
                <p:spPr>
                  <a:xfrm>
                    <a:off x="2417400" y="4005000"/>
                    <a:ext cx="5389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5" name="Rectángulo 32"/>
                  <p:cNvSpPr/>
                  <p:nvPr/>
                </p:nvSpPr>
                <p:spPr>
                  <a:xfrm>
                    <a:off x="1222200" y="400500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6" name="Rectángulo 38"/>
                  <p:cNvSpPr/>
                  <p:nvPr/>
                </p:nvSpPr>
                <p:spPr>
                  <a:xfrm>
                    <a:off x="1209600" y="3679560"/>
                    <a:ext cx="28116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7" name="Línea 34"/>
                  <p:cNvSpPr/>
                  <p:nvPr/>
                </p:nvSpPr>
                <p:spPr>
                  <a:xfrm>
                    <a:off x="1460520" y="413352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8" name="Línea 35"/>
                  <p:cNvSpPr/>
                  <p:nvPr/>
                </p:nvSpPr>
                <p:spPr>
                  <a:xfrm>
                    <a:off x="1162080" y="416376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9" name="Línea 36"/>
                  <p:cNvSpPr/>
                  <p:nvPr/>
                </p:nvSpPr>
                <p:spPr>
                  <a:xfrm>
                    <a:off x="1347840" y="3956040"/>
                    <a:ext cx="1440" cy="121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0" name="Línea 37"/>
                  <p:cNvSpPr/>
                  <p:nvPr/>
                </p:nvSpPr>
                <p:spPr>
                  <a:xfrm>
                    <a:off x="1403280" y="3954240"/>
                    <a:ext cx="0" cy="12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1" name="Rectángulo 162"/>
                  <p:cNvSpPr/>
                  <p:nvPr/>
                </p:nvSpPr>
                <p:spPr>
                  <a:xfrm>
                    <a:off x="1617840" y="4005000"/>
                    <a:ext cx="8683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(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2" name="Línea 165"/>
                  <p:cNvSpPr/>
                  <p:nvPr/>
                </p:nvSpPr>
                <p:spPr>
                  <a:xfrm>
                    <a:off x="2289240" y="4147920"/>
                    <a:ext cx="12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693" name="Grupo 169"/>
                  <p:cNvGrpSpPr/>
                  <p:nvPr/>
                </p:nvGrpSpPr>
                <p:grpSpPr>
                  <a:xfrm>
                    <a:off x="250920" y="2997360"/>
                    <a:ext cx="2562480" cy="3148200"/>
                    <a:chOff x="250920" y="2997360"/>
                    <a:chExt cx="2562480" cy="3148200"/>
                  </a:xfrm>
                </p:grpSpPr>
                <p:sp>
                  <p:nvSpPr>
                    <p:cNvPr id="694" name="Rectángulo 29"/>
                    <p:cNvSpPr/>
                    <p:nvPr/>
                  </p:nvSpPr>
                  <p:spPr>
                    <a:xfrm>
                      <a:off x="1225440" y="2997360"/>
                      <a:ext cx="28260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5" name="Rectángulo 24"/>
                    <p:cNvSpPr/>
                    <p:nvPr/>
                  </p:nvSpPr>
                  <p:spPr>
                    <a:xfrm>
                      <a:off x="1528920" y="3350880"/>
                      <a:ext cx="8683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6" name="Línea 30"/>
                    <p:cNvSpPr/>
                    <p:nvPr/>
                  </p:nvSpPr>
                  <p:spPr>
                    <a:xfrm>
                      <a:off x="2203560" y="352404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7" name="Rectángulo 31"/>
                    <p:cNvSpPr/>
                    <p:nvPr/>
                  </p:nvSpPr>
                  <p:spPr>
                    <a:xfrm>
                      <a:off x="2274480" y="3355920"/>
                      <a:ext cx="5389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8" name="Línea 27"/>
                    <p:cNvSpPr/>
                    <p:nvPr/>
                  </p:nvSpPr>
                  <p:spPr>
                    <a:xfrm>
                      <a:off x="1346400" y="3286080"/>
                      <a:ext cx="1440" cy="101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9" name="Línea 28"/>
                    <p:cNvSpPr/>
                    <p:nvPr/>
                  </p:nvSpPr>
                  <p:spPr>
                    <a:xfrm>
                      <a:off x="1403280" y="3284280"/>
                      <a:ext cx="0" cy="1220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00" name="Rectángulo 23"/>
                    <p:cNvSpPr/>
                    <p:nvPr/>
                  </p:nvSpPr>
                  <p:spPr>
                    <a:xfrm>
                      <a:off x="1217520" y="335412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701" name="Grupo 168"/>
                    <p:cNvGrpSpPr/>
                    <p:nvPr/>
                  </p:nvGrpSpPr>
                  <p:grpSpPr>
                    <a:xfrm>
                      <a:off x="250920" y="3022560"/>
                      <a:ext cx="2506320" cy="3123000"/>
                      <a:chOff x="250920" y="3022560"/>
                      <a:chExt cx="2506320" cy="3123000"/>
                    </a:xfrm>
                  </p:grpSpPr>
                  <p:sp>
                    <p:nvSpPr>
                      <p:cNvPr id="702" name="Rectángulo 21"/>
                      <p:cNvSpPr/>
                      <p:nvPr/>
                    </p:nvSpPr>
                    <p:spPr>
                      <a:xfrm>
                        <a:off x="930240" y="3982680"/>
                        <a:ext cx="28116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3" name="Rectángulo 5"/>
                      <p:cNvSpPr/>
                      <p:nvPr/>
                    </p:nvSpPr>
                    <p:spPr>
                      <a:xfrm>
                        <a:off x="250920" y="399348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4" name="Rectángulo 2"/>
                      <p:cNvSpPr/>
                      <p:nvPr/>
                    </p:nvSpPr>
                    <p:spPr>
                      <a:xfrm>
                        <a:off x="576360" y="397944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5" name="Línea 8"/>
                      <p:cNvSpPr/>
                      <p:nvPr/>
                    </p:nvSpPr>
                    <p:spPr>
                      <a:xfrm>
                        <a:off x="860400" y="413316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6" name="Línea 9"/>
                      <p:cNvSpPr/>
                      <p:nvPr/>
                    </p:nvSpPr>
                    <p:spPr>
                      <a:xfrm>
                        <a:off x="523800" y="417780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707" name="Grupo 167"/>
                      <p:cNvGrpSpPr/>
                      <p:nvPr/>
                    </p:nvGrpSpPr>
                    <p:grpSpPr>
                      <a:xfrm>
                        <a:off x="252360" y="3022560"/>
                        <a:ext cx="2504880" cy="3123000"/>
                        <a:chOff x="252360" y="3022560"/>
                        <a:chExt cx="2504880" cy="3123000"/>
                      </a:xfrm>
                    </p:grpSpPr>
                    <p:sp>
                      <p:nvSpPr>
                        <p:cNvPr id="708" name="Rectángulo 108"/>
                        <p:cNvSpPr/>
                        <p:nvPr/>
                      </p:nvSpPr>
                      <p:spPr>
                        <a:xfrm>
                          <a:off x="1203480" y="5805000"/>
                          <a:ext cx="1553760" cy="3405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9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riglicéridos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9" name="Rectángulo 4"/>
                        <p:cNvSpPr/>
                        <p:nvPr/>
                      </p:nvSpPr>
                      <p:spPr>
                        <a:xfrm>
                          <a:off x="893880" y="3350520"/>
                          <a:ext cx="2826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0" name="Rectángulo 3"/>
                        <p:cNvSpPr/>
                        <p:nvPr/>
                      </p:nvSpPr>
                      <p:spPr>
                        <a:xfrm>
                          <a:off x="574560" y="337752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1" name="Rectángulo 11"/>
                        <p:cNvSpPr/>
                        <p:nvPr/>
                      </p:nvSpPr>
                      <p:spPr>
                        <a:xfrm>
                          <a:off x="585720" y="3022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2" name="Rectángulo 19"/>
                        <p:cNvSpPr/>
                        <p:nvPr/>
                      </p:nvSpPr>
                      <p:spPr>
                        <a:xfrm>
                          <a:off x="252360" y="3355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3" name="Línea 20"/>
                        <p:cNvSpPr/>
                        <p:nvPr/>
                      </p:nvSpPr>
                      <p:spPr>
                        <a:xfrm>
                          <a:off x="466920" y="3492000"/>
                          <a:ext cx="147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4" name="Línea 6"/>
                        <p:cNvSpPr/>
                        <p:nvPr/>
                      </p:nvSpPr>
                      <p:spPr>
                        <a:xfrm>
                          <a:off x="723960" y="3282480"/>
                          <a:ext cx="0" cy="1407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5" name="Línea 10"/>
                        <p:cNvSpPr/>
                        <p:nvPr/>
                      </p:nvSpPr>
                      <p:spPr>
                        <a:xfrm>
                          <a:off x="819360" y="34952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6" name="Línea 26"/>
                        <p:cNvSpPr/>
                        <p:nvPr/>
                      </p:nvSpPr>
                      <p:spPr>
                        <a:xfrm>
                          <a:off x="1176480" y="35078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717" name="Línea 159"/>
                      <p:cNvSpPr/>
                      <p:nvPr/>
                    </p:nvSpPr>
                    <p:spPr>
                      <a:xfrm>
                        <a:off x="754200" y="3644280"/>
                        <a:ext cx="0" cy="35856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18" name="Línea 160"/>
                      <p:cNvSpPr/>
                      <p:nvPr/>
                    </p:nvSpPr>
                    <p:spPr>
                      <a:xfrm>
                        <a:off x="754200" y="4293720"/>
                        <a:ext cx="0" cy="35820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719" name="Línea 25"/>
                    <p:cNvSpPr/>
                    <p:nvPr/>
                  </p:nvSpPr>
                  <p:spPr>
                    <a:xfrm>
                      <a:off x="1460520" y="351612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720" name="Línea 44"/>
                <p:cNvSpPr/>
                <p:nvPr/>
              </p:nvSpPr>
              <p:spPr>
                <a:xfrm>
                  <a:off x="1162080" y="479736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1" name="Línea 175"/>
                <p:cNvSpPr/>
                <p:nvPr/>
              </p:nvSpPr>
              <p:spPr>
                <a:xfrm>
                  <a:off x="1366920" y="4578120"/>
                  <a:ext cx="0" cy="12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22" name="Cuadro de texto 179"/>
          <p:cNvSpPr/>
          <p:nvPr/>
        </p:nvSpPr>
        <p:spPr>
          <a:xfrm>
            <a:off x="4356000" y="2060640"/>
            <a:ext cx="1368360" cy="4597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ter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orma libre 181"/>
          <p:cNvSpPr/>
          <p:nvPr/>
        </p:nvSpPr>
        <p:spPr>
          <a:xfrm>
            <a:off x="4716360" y="2492280"/>
            <a:ext cx="486000" cy="2041560"/>
          </a:xfrm>
          <a:custGeom>
            <a:avLst/>
            <a:gdLst/>
            <a:ahLst/>
            <a:rect l="l" t="t" r="r" b="b"/>
            <a:pathLst>
              <a:path w="306" h="1286">
                <a:moveTo>
                  <a:pt x="38" y="0"/>
                </a:moveTo>
                <a:cubicBezTo>
                  <a:pt x="19" y="329"/>
                  <a:pt x="0" y="658"/>
                  <a:pt x="38" y="862"/>
                </a:cubicBezTo>
                <a:cubicBezTo>
                  <a:pt x="76" y="1066"/>
                  <a:pt x="224" y="1164"/>
                  <a:pt x="265" y="1225"/>
                </a:cubicBezTo>
                <a:cubicBezTo>
                  <a:pt x="306" y="1286"/>
                  <a:pt x="281" y="1229"/>
                  <a:pt x="285" y="1230"/>
                </a:cubicBezTo>
              </a:path>
            </a:pathLst>
          </a:custGeom>
          <a:noFill/>
          <a:ln w="31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Cuadro de texto 182"/>
          <p:cNvSpPr/>
          <p:nvPr/>
        </p:nvSpPr>
        <p:spPr>
          <a:xfrm>
            <a:off x="5219640" y="3789360"/>
            <a:ext cx="1081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C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Cuadro de texto 183"/>
          <p:cNvSpPr/>
          <p:nvPr/>
        </p:nvSpPr>
        <p:spPr>
          <a:xfrm>
            <a:off x="5148360" y="5084640"/>
            <a:ext cx="1081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C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748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Rounded MT Bold"/>
              </a:rPr>
              <a:t>Digestión de Fosfo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7" name="Grupo 11"/>
          <p:cNvGrpSpPr/>
          <p:nvPr/>
        </p:nvGrpSpPr>
        <p:grpSpPr>
          <a:xfrm>
            <a:off x="1403280" y="2852640"/>
            <a:ext cx="5400720" cy="2388960"/>
            <a:chOff x="1403280" y="2852640"/>
            <a:chExt cx="5400720" cy="2388960"/>
          </a:xfrm>
        </p:grpSpPr>
        <p:pic>
          <p:nvPicPr>
            <p:cNvPr id="728" name="Imagen 5" descr="fi19p5"/>
            <p:cNvPicPr/>
            <p:nvPr/>
          </p:nvPicPr>
          <p:blipFill>
            <a:blip r:embed="rId1"/>
            <a:srcRect l="4770" t="76815" r="17641" b="0"/>
            <a:stretch/>
          </p:blipFill>
          <p:spPr>
            <a:xfrm>
              <a:off x="1403280" y="2852640"/>
              <a:ext cx="540072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Cuadro de texto 7"/>
            <p:cNvSpPr/>
            <p:nvPr/>
          </p:nvSpPr>
          <p:spPr>
            <a:xfrm>
              <a:off x="2339640" y="4868640"/>
              <a:ext cx="33134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colina (Leciti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0" name="Cuadro de texto 15"/>
          <p:cNvSpPr/>
          <p:nvPr/>
        </p:nvSpPr>
        <p:spPr>
          <a:xfrm>
            <a:off x="684360" y="5661000"/>
            <a:ext cx="165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tera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Cuadro de texto 14"/>
          <p:cNvSpPr/>
          <p:nvPr/>
        </p:nvSpPr>
        <p:spPr>
          <a:xfrm>
            <a:off x="4067280" y="5734080"/>
            <a:ext cx="1726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osfata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2" name="Grupo 18"/>
          <p:cNvGrpSpPr/>
          <p:nvPr/>
        </p:nvGrpSpPr>
        <p:grpSpPr>
          <a:xfrm>
            <a:off x="2195640" y="1881360"/>
            <a:ext cx="2232000" cy="2087280"/>
            <a:chOff x="2195640" y="1881360"/>
            <a:chExt cx="2232000" cy="2087280"/>
          </a:xfrm>
        </p:grpSpPr>
        <p:sp>
          <p:nvSpPr>
            <p:cNvPr id="733" name="Cuadro de texto 13"/>
            <p:cNvSpPr/>
            <p:nvPr/>
          </p:nvSpPr>
          <p:spPr>
            <a:xfrm>
              <a:off x="2195640" y="1881360"/>
              <a:ext cx="22320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olipasa A</a:t>
              </a:r>
              <a:r>
                <a:rPr b="1" i="1" lang="es-ES_tradnl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orma libre 16"/>
            <p:cNvSpPr/>
            <p:nvPr/>
          </p:nvSpPr>
          <p:spPr>
            <a:xfrm>
              <a:off x="2482920" y="2384280"/>
              <a:ext cx="287280" cy="1584360"/>
            </a:xfrm>
            <a:custGeom>
              <a:avLst/>
              <a:gdLst/>
              <a:ahLst/>
              <a:rect l="l" t="t" r="r" b="b"/>
              <a:pathLst>
                <a:path w="306" h="1286">
                  <a:moveTo>
                    <a:pt x="38" y="0"/>
                  </a:moveTo>
                  <a:cubicBezTo>
                    <a:pt x="19" y="329"/>
                    <a:pt x="0" y="658"/>
                    <a:pt x="38" y="862"/>
                  </a:cubicBezTo>
                  <a:cubicBezTo>
                    <a:pt x="76" y="1066"/>
                    <a:pt x="224" y="1164"/>
                    <a:pt x="265" y="1225"/>
                  </a:cubicBezTo>
                  <a:cubicBezTo>
                    <a:pt x="306" y="1286"/>
                    <a:pt x="281" y="1229"/>
                    <a:pt x="285" y="1230"/>
                  </a:cubicBezTo>
                </a:path>
              </a:pathLst>
            </a:custGeom>
            <a:noFill/>
            <a:ln w="316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Cuadro de texto 5"/>
          <p:cNvSpPr/>
          <p:nvPr/>
        </p:nvSpPr>
        <p:spPr>
          <a:xfrm>
            <a:off x="108000" y="115920"/>
            <a:ext cx="8856720" cy="1537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bsorción de lípid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cción de sales bili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Cuadro de texto 6"/>
          <p:cNvSpPr/>
          <p:nvPr/>
        </p:nvSpPr>
        <p:spPr>
          <a:xfrm>
            <a:off x="755640" y="2492280"/>
            <a:ext cx="3456000" cy="86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C.GRASOS LIB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NOGLICÉR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7" name="Grupo 13"/>
          <p:cNvGrpSpPr/>
          <p:nvPr/>
        </p:nvGrpSpPr>
        <p:grpSpPr>
          <a:xfrm>
            <a:off x="5362560" y="2205000"/>
            <a:ext cx="3529080" cy="1655640"/>
            <a:chOff x="5362560" y="2205000"/>
            <a:chExt cx="3529080" cy="1655640"/>
          </a:xfrm>
        </p:grpSpPr>
        <p:sp>
          <p:nvSpPr>
            <p:cNvPr id="738" name="Elipse 11"/>
            <p:cNvSpPr/>
            <p:nvPr/>
          </p:nvSpPr>
          <p:spPr>
            <a:xfrm>
              <a:off x="5362560" y="2205000"/>
              <a:ext cx="3529080" cy="1655640"/>
            </a:xfrm>
            <a:prstGeom prst="ellipse">
              <a:avLst/>
            </a:prstGeom>
            <a:solidFill>
              <a:srgbClr val="7793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Cuadro de texto 7"/>
            <p:cNvSpPr/>
            <p:nvPr/>
          </p:nvSpPr>
          <p:spPr>
            <a:xfrm>
              <a:off x="5796000" y="2432160"/>
              <a:ext cx="2808360" cy="119124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Rounded MT Bold"/>
                  <a:ea typeface="Arial"/>
                </a:rPr>
                <a:t>Atraviesan la membrana del enterocito por difusión simpl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0" name="Cuadro de texto 8"/>
          <p:cNvSpPr/>
          <p:nvPr/>
        </p:nvSpPr>
        <p:spPr>
          <a:xfrm>
            <a:off x="122400" y="1601640"/>
            <a:ext cx="8866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N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YEYUNO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e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ILEON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POR DIFUSION PAS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Cuadro de texto 9"/>
          <p:cNvSpPr/>
          <p:nvPr/>
        </p:nvSpPr>
        <p:spPr>
          <a:xfrm>
            <a:off x="326880" y="5805360"/>
            <a:ext cx="86616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. Grasos de Cadena larga: Sistema de transporte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LIPOPROTEÍ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Cuadro de texto 10"/>
          <p:cNvSpPr/>
          <p:nvPr/>
        </p:nvSpPr>
        <p:spPr>
          <a:xfrm>
            <a:off x="230040" y="3500280"/>
            <a:ext cx="5040360" cy="2128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MICEL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noglicérid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G de cadena lar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lester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itaminas liposolu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upo 63"/>
          <p:cNvGrpSpPr/>
          <p:nvPr/>
        </p:nvGrpSpPr>
        <p:grpSpPr>
          <a:xfrm>
            <a:off x="1943280" y="2400480"/>
            <a:ext cx="4119840" cy="3071880"/>
            <a:chOff x="1943280" y="2400480"/>
            <a:chExt cx="4119840" cy="3071880"/>
          </a:xfrm>
        </p:grpSpPr>
        <p:grpSp>
          <p:nvGrpSpPr>
            <p:cNvPr id="744" name="Grupo 20"/>
            <p:cNvGrpSpPr/>
            <p:nvPr/>
          </p:nvGrpSpPr>
          <p:grpSpPr>
            <a:xfrm>
              <a:off x="1943280" y="2421000"/>
              <a:ext cx="3608280" cy="2939760"/>
              <a:chOff x="1943280" y="2421000"/>
              <a:chExt cx="3608280" cy="2939760"/>
            </a:xfrm>
          </p:grpSpPr>
          <p:sp>
            <p:nvSpPr>
              <p:cNvPr id="745" name="Rectángulo 17"/>
              <p:cNvSpPr/>
              <p:nvPr/>
            </p:nvSpPr>
            <p:spPr>
              <a:xfrm>
                <a:off x="1943280" y="2421000"/>
                <a:ext cx="3456000" cy="29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GPD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Rectángulo 19"/>
              <p:cNvSpPr/>
              <p:nvPr/>
            </p:nvSpPr>
            <p:spPr>
              <a:xfrm>
                <a:off x="5245560" y="2421000"/>
                <a:ext cx="306000" cy="293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7" name="Forma libre 18"/>
            <p:cNvSpPr/>
            <p:nvPr/>
          </p:nvSpPr>
          <p:spPr>
            <a:xfrm rot="196800">
              <a:off x="5169240" y="2421000"/>
              <a:ext cx="807840" cy="3030480"/>
            </a:xfrm>
            <a:custGeom>
              <a:avLst/>
              <a:gdLst/>
              <a:ahLst/>
              <a:rect l="l" t="t" r="r" b="b"/>
              <a:pathLst>
                <a:path w="477" h="1637">
                  <a:moveTo>
                    <a:pt x="0" y="4"/>
                  </a:moveTo>
                  <a:cubicBezTo>
                    <a:pt x="82" y="7"/>
                    <a:pt x="166" y="0"/>
                    <a:pt x="247" y="13"/>
                  </a:cubicBezTo>
                  <a:cubicBezTo>
                    <a:pt x="266" y="16"/>
                    <a:pt x="201" y="40"/>
                    <a:pt x="210" y="59"/>
                  </a:cubicBezTo>
                  <a:cubicBezTo>
                    <a:pt x="168" y="84"/>
                    <a:pt x="113" y="73"/>
                    <a:pt x="64" y="77"/>
                  </a:cubicBezTo>
                  <a:cubicBezTo>
                    <a:pt x="19" y="122"/>
                    <a:pt x="32" y="136"/>
                    <a:pt x="73" y="178"/>
                  </a:cubicBezTo>
                  <a:cubicBezTo>
                    <a:pt x="154" y="160"/>
                    <a:pt x="154" y="160"/>
                    <a:pt x="256" y="168"/>
                  </a:cubicBezTo>
                  <a:cubicBezTo>
                    <a:pt x="253" y="177"/>
                    <a:pt x="255" y="190"/>
                    <a:pt x="247" y="196"/>
                  </a:cubicBezTo>
                  <a:cubicBezTo>
                    <a:pt x="212" y="221"/>
                    <a:pt x="106" y="221"/>
                    <a:pt x="82" y="223"/>
                  </a:cubicBezTo>
                  <a:cubicBezTo>
                    <a:pt x="100" y="305"/>
                    <a:pt x="75" y="260"/>
                    <a:pt x="192" y="278"/>
                  </a:cubicBezTo>
                  <a:cubicBezTo>
                    <a:pt x="217" y="282"/>
                    <a:pt x="265" y="296"/>
                    <a:pt x="265" y="296"/>
                  </a:cubicBezTo>
                  <a:cubicBezTo>
                    <a:pt x="202" y="392"/>
                    <a:pt x="251" y="350"/>
                    <a:pt x="82" y="360"/>
                  </a:cubicBezTo>
                  <a:cubicBezTo>
                    <a:pt x="117" y="457"/>
                    <a:pt x="176" y="393"/>
                    <a:pt x="265" y="415"/>
                  </a:cubicBezTo>
                  <a:cubicBezTo>
                    <a:pt x="274" y="421"/>
                    <a:pt x="309" y="459"/>
                    <a:pt x="311" y="470"/>
                  </a:cubicBezTo>
                  <a:cubicBezTo>
                    <a:pt x="313" y="481"/>
                    <a:pt x="267" y="450"/>
                    <a:pt x="256" y="452"/>
                  </a:cubicBezTo>
                  <a:cubicBezTo>
                    <a:pt x="190" y="463"/>
                    <a:pt x="159" y="504"/>
                    <a:pt x="92" y="507"/>
                  </a:cubicBezTo>
                  <a:cubicBezTo>
                    <a:pt x="119" y="588"/>
                    <a:pt x="237" y="537"/>
                    <a:pt x="311" y="552"/>
                  </a:cubicBezTo>
                  <a:cubicBezTo>
                    <a:pt x="290" y="636"/>
                    <a:pt x="210" y="602"/>
                    <a:pt x="119" y="607"/>
                  </a:cubicBezTo>
                  <a:cubicBezTo>
                    <a:pt x="105" y="634"/>
                    <a:pt x="215" y="653"/>
                    <a:pt x="247" y="671"/>
                  </a:cubicBezTo>
                  <a:cubicBezTo>
                    <a:pt x="279" y="689"/>
                    <a:pt x="314" y="705"/>
                    <a:pt x="311" y="717"/>
                  </a:cubicBezTo>
                  <a:cubicBezTo>
                    <a:pt x="308" y="733"/>
                    <a:pt x="261" y="735"/>
                    <a:pt x="229" y="744"/>
                  </a:cubicBezTo>
                  <a:cubicBezTo>
                    <a:pt x="197" y="753"/>
                    <a:pt x="115" y="763"/>
                    <a:pt x="119" y="772"/>
                  </a:cubicBezTo>
                  <a:cubicBezTo>
                    <a:pt x="91" y="856"/>
                    <a:pt x="203" y="794"/>
                    <a:pt x="256" y="799"/>
                  </a:cubicBezTo>
                  <a:cubicBezTo>
                    <a:pt x="302" y="814"/>
                    <a:pt x="300" y="830"/>
                    <a:pt x="284" y="872"/>
                  </a:cubicBezTo>
                  <a:cubicBezTo>
                    <a:pt x="241" y="869"/>
                    <a:pt x="189" y="918"/>
                    <a:pt x="146" y="918"/>
                  </a:cubicBezTo>
                  <a:cubicBezTo>
                    <a:pt x="137" y="918"/>
                    <a:pt x="123" y="918"/>
                    <a:pt x="119" y="927"/>
                  </a:cubicBezTo>
                  <a:cubicBezTo>
                    <a:pt x="106" y="954"/>
                    <a:pt x="144" y="962"/>
                    <a:pt x="156" y="964"/>
                  </a:cubicBezTo>
                  <a:cubicBezTo>
                    <a:pt x="186" y="969"/>
                    <a:pt x="217" y="969"/>
                    <a:pt x="247" y="973"/>
                  </a:cubicBezTo>
                  <a:cubicBezTo>
                    <a:pt x="284" y="978"/>
                    <a:pt x="311" y="964"/>
                    <a:pt x="311" y="964"/>
                  </a:cubicBezTo>
                  <a:cubicBezTo>
                    <a:pt x="248" y="1058"/>
                    <a:pt x="314" y="1062"/>
                    <a:pt x="174" y="1074"/>
                  </a:cubicBezTo>
                  <a:cubicBezTo>
                    <a:pt x="211" y="1130"/>
                    <a:pt x="257" y="1113"/>
                    <a:pt x="329" y="1119"/>
                  </a:cubicBezTo>
                  <a:cubicBezTo>
                    <a:pt x="338" y="1122"/>
                    <a:pt x="353" y="1119"/>
                    <a:pt x="357" y="1128"/>
                  </a:cubicBezTo>
                  <a:cubicBezTo>
                    <a:pt x="366" y="1145"/>
                    <a:pt x="337" y="1166"/>
                    <a:pt x="329" y="1174"/>
                  </a:cubicBezTo>
                  <a:cubicBezTo>
                    <a:pt x="254" y="1167"/>
                    <a:pt x="209" y="1155"/>
                    <a:pt x="137" y="1165"/>
                  </a:cubicBezTo>
                  <a:cubicBezTo>
                    <a:pt x="166" y="1313"/>
                    <a:pt x="304" y="1169"/>
                    <a:pt x="412" y="1238"/>
                  </a:cubicBezTo>
                  <a:cubicBezTo>
                    <a:pt x="365" y="1283"/>
                    <a:pt x="339" y="1263"/>
                    <a:pt x="265" y="1256"/>
                  </a:cubicBezTo>
                  <a:cubicBezTo>
                    <a:pt x="237" y="1250"/>
                    <a:pt x="182" y="1234"/>
                    <a:pt x="156" y="1256"/>
                  </a:cubicBezTo>
                  <a:cubicBezTo>
                    <a:pt x="133" y="1275"/>
                    <a:pt x="184" y="1310"/>
                    <a:pt x="192" y="1311"/>
                  </a:cubicBezTo>
                  <a:cubicBezTo>
                    <a:pt x="250" y="1319"/>
                    <a:pt x="308" y="1317"/>
                    <a:pt x="366" y="1320"/>
                  </a:cubicBezTo>
                  <a:cubicBezTo>
                    <a:pt x="356" y="1363"/>
                    <a:pt x="352" y="1370"/>
                    <a:pt x="311" y="1384"/>
                  </a:cubicBezTo>
                  <a:cubicBezTo>
                    <a:pt x="227" y="1363"/>
                    <a:pt x="259" y="1380"/>
                    <a:pt x="210" y="1348"/>
                  </a:cubicBezTo>
                  <a:cubicBezTo>
                    <a:pt x="169" y="1354"/>
                    <a:pt x="119" y="1339"/>
                    <a:pt x="156" y="1394"/>
                  </a:cubicBezTo>
                  <a:cubicBezTo>
                    <a:pt x="202" y="1462"/>
                    <a:pt x="320" y="1418"/>
                    <a:pt x="402" y="1421"/>
                  </a:cubicBezTo>
                  <a:cubicBezTo>
                    <a:pt x="391" y="1466"/>
                    <a:pt x="381" y="1471"/>
                    <a:pt x="338" y="1485"/>
                  </a:cubicBezTo>
                  <a:cubicBezTo>
                    <a:pt x="285" y="1478"/>
                    <a:pt x="243" y="1464"/>
                    <a:pt x="192" y="1476"/>
                  </a:cubicBezTo>
                  <a:cubicBezTo>
                    <a:pt x="217" y="1576"/>
                    <a:pt x="343" y="1536"/>
                    <a:pt x="430" y="1540"/>
                  </a:cubicBezTo>
                  <a:cubicBezTo>
                    <a:pt x="421" y="1549"/>
                    <a:pt x="477" y="1573"/>
                    <a:pt x="439" y="1576"/>
                  </a:cubicBezTo>
                  <a:cubicBezTo>
                    <a:pt x="357" y="1582"/>
                    <a:pt x="274" y="1583"/>
                    <a:pt x="192" y="1586"/>
                  </a:cubicBezTo>
                  <a:cubicBezTo>
                    <a:pt x="204" y="1605"/>
                    <a:pt x="223" y="1637"/>
                    <a:pt x="247" y="1613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Rounded MT Bold"/>
              </a:rPr>
              <a:t>Absorción de los productos de la digestión de 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Grupo 28"/>
          <p:cNvGrpSpPr/>
          <p:nvPr/>
        </p:nvGrpSpPr>
        <p:grpSpPr>
          <a:xfrm>
            <a:off x="2050920" y="5500800"/>
            <a:ext cx="3681720" cy="449280"/>
            <a:chOff x="2050920" y="5500800"/>
            <a:chExt cx="3681720" cy="449280"/>
          </a:xfrm>
        </p:grpSpPr>
        <p:grpSp>
          <p:nvGrpSpPr>
            <p:cNvPr id="750" name="Grupo 26"/>
            <p:cNvGrpSpPr/>
            <p:nvPr/>
          </p:nvGrpSpPr>
          <p:grpSpPr>
            <a:xfrm>
              <a:off x="2050920" y="5516640"/>
              <a:ext cx="3384720" cy="433440"/>
              <a:chOff x="2050920" y="5516640"/>
              <a:chExt cx="3384720" cy="433440"/>
            </a:xfrm>
          </p:grpSpPr>
          <p:sp>
            <p:nvSpPr>
              <p:cNvPr id="751" name="Línea 24"/>
              <p:cNvSpPr/>
              <p:nvPr/>
            </p:nvSpPr>
            <p:spPr>
              <a:xfrm>
                <a:off x="2050920" y="5516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Línea 25"/>
              <p:cNvSpPr/>
              <p:nvPr/>
            </p:nvSpPr>
            <p:spPr>
              <a:xfrm>
                <a:off x="2050920" y="5516640"/>
                <a:ext cx="33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3" name="Forma libre 27"/>
            <p:cNvSpPr/>
            <p:nvPr/>
          </p:nvSpPr>
          <p:spPr>
            <a:xfrm>
              <a:off x="5311800" y="5500800"/>
              <a:ext cx="420840" cy="377640"/>
            </a:xfrm>
            <a:custGeom>
              <a:avLst/>
              <a:gdLst/>
              <a:ahLst/>
              <a:rect l="l" t="t" r="r" b="b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4" name="Grupo 62"/>
          <p:cNvGrpSpPr/>
          <p:nvPr/>
        </p:nvGrpSpPr>
        <p:grpSpPr>
          <a:xfrm>
            <a:off x="1943280" y="1844640"/>
            <a:ext cx="3681000" cy="433440"/>
            <a:chOff x="1943280" y="1844640"/>
            <a:chExt cx="3681000" cy="433440"/>
          </a:xfrm>
        </p:grpSpPr>
        <p:sp>
          <p:nvSpPr>
            <p:cNvPr id="755" name="Línea 31"/>
            <p:cNvSpPr/>
            <p:nvPr/>
          </p:nvSpPr>
          <p:spPr>
            <a:xfrm>
              <a:off x="1943280" y="184464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Línea 32"/>
            <p:cNvSpPr/>
            <p:nvPr/>
          </p:nvSpPr>
          <p:spPr>
            <a:xfrm>
              <a:off x="1943280" y="226044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orma libre 33"/>
            <p:cNvSpPr/>
            <p:nvPr/>
          </p:nvSpPr>
          <p:spPr>
            <a:xfrm>
              <a:off x="5203800" y="1882800"/>
              <a:ext cx="420480" cy="377640"/>
            </a:xfrm>
            <a:custGeom>
              <a:avLst/>
              <a:gdLst/>
              <a:ahLst/>
              <a:rect l="l" t="t" r="r" b="b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8" name="Cuadro de texto 35"/>
          <p:cNvSpPr/>
          <p:nvPr/>
        </p:nvSpPr>
        <p:spPr>
          <a:xfrm>
            <a:off x="0" y="227664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SPACIO INTERSTI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Cuadro de texto 36"/>
          <p:cNvSpPr/>
          <p:nvPr/>
        </p:nvSpPr>
        <p:spPr>
          <a:xfrm>
            <a:off x="6119640" y="2349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U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0" name="Grupo 39"/>
          <p:cNvGrpSpPr/>
          <p:nvPr/>
        </p:nvGrpSpPr>
        <p:grpSpPr>
          <a:xfrm>
            <a:off x="2411280" y="2567160"/>
            <a:ext cx="2951280" cy="398880"/>
            <a:chOff x="2411280" y="2567160"/>
            <a:chExt cx="2951280" cy="398880"/>
          </a:xfrm>
        </p:grpSpPr>
        <p:sp>
          <p:nvSpPr>
            <p:cNvPr id="761" name="Cuadro de texto 37"/>
            <p:cNvSpPr/>
            <p:nvPr/>
          </p:nvSpPr>
          <p:spPr>
            <a:xfrm>
              <a:off x="2411280" y="2567160"/>
              <a:ext cx="295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HAP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ólisi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Línea 38"/>
            <p:cNvSpPr/>
            <p:nvPr/>
          </p:nvSpPr>
          <p:spPr>
            <a:xfrm flipH="1">
              <a:off x="3346560" y="285444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3" name="Elipse 42"/>
          <p:cNvSpPr/>
          <p:nvPr/>
        </p:nvSpPr>
        <p:spPr>
          <a:xfrm>
            <a:off x="1042920" y="3500280"/>
            <a:ext cx="792360" cy="720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4" name="Grupo 64"/>
          <p:cNvGrpSpPr/>
          <p:nvPr/>
        </p:nvGrpSpPr>
        <p:grpSpPr>
          <a:xfrm>
            <a:off x="252360" y="4941720"/>
            <a:ext cx="8244000" cy="1808280"/>
            <a:chOff x="252360" y="4941720"/>
            <a:chExt cx="8244000" cy="1808280"/>
          </a:xfrm>
        </p:grpSpPr>
        <p:sp>
          <p:nvSpPr>
            <p:cNvPr id="765" name="Cuadro de texto 40"/>
            <p:cNvSpPr/>
            <p:nvPr/>
          </p:nvSpPr>
          <p:spPr>
            <a:xfrm>
              <a:off x="252360" y="4941720"/>
              <a:ext cx="82440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.Grasos                                                               Ac. Gra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lt; 10 C                                                                                              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lt; 10 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Línea 41"/>
            <p:cNvSpPr/>
            <p:nvPr/>
          </p:nvSpPr>
          <p:spPr>
            <a:xfrm flipH="1">
              <a:off x="1727280" y="5230800"/>
              <a:ext cx="44654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Línea 43"/>
            <p:cNvSpPr/>
            <p:nvPr/>
          </p:nvSpPr>
          <p:spPr>
            <a:xfrm>
              <a:off x="1187280" y="5445000"/>
              <a:ext cx="0" cy="720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Cuadro de texto 44"/>
            <p:cNvSpPr/>
            <p:nvPr/>
          </p:nvSpPr>
          <p:spPr>
            <a:xfrm>
              <a:off x="539640" y="6381720"/>
              <a:ext cx="14400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ena por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9" name="Cuadro de texto 45"/>
          <p:cNvSpPr/>
          <p:nvPr/>
        </p:nvSpPr>
        <p:spPr>
          <a:xfrm>
            <a:off x="179280" y="3213000"/>
            <a:ext cx="7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Línea 46"/>
          <p:cNvSpPr/>
          <p:nvPr/>
        </p:nvSpPr>
        <p:spPr>
          <a:xfrm flipH="1" flipV="1">
            <a:off x="610920" y="3644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Línea 49"/>
          <p:cNvSpPr/>
          <p:nvPr/>
        </p:nvSpPr>
        <p:spPr>
          <a:xfrm flipH="1">
            <a:off x="2626920" y="3176640"/>
            <a:ext cx="1800" cy="682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Autoforma 54"/>
          <p:cNvSpPr/>
          <p:nvPr/>
        </p:nvSpPr>
        <p:spPr>
          <a:xfrm rot="1471200">
            <a:off x="2843280" y="3716280"/>
            <a:ext cx="792000" cy="360360"/>
          </a:xfrm>
          <a:custGeom>
            <a:avLst/>
            <a:gdLst>
              <a:gd name="textAreaLeft" fmla="*/ 79200 w 792000"/>
              <a:gd name="textAreaRight" fmla="*/ 712800 w 792000"/>
              <a:gd name="textAreaTop" fmla="*/ 205920 h 360360"/>
              <a:gd name="textAreaBottom" fmla="*/ 308880 h 360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Elipse 55"/>
          <p:cNvSpPr/>
          <p:nvPr/>
        </p:nvSpPr>
        <p:spPr>
          <a:xfrm>
            <a:off x="2124000" y="4365720"/>
            <a:ext cx="505080" cy="504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Línea 59"/>
          <p:cNvSpPr/>
          <p:nvPr/>
        </p:nvSpPr>
        <p:spPr>
          <a:xfrm flipH="1" flipV="1">
            <a:off x="1834920" y="4149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5" name="Grupo 66"/>
          <p:cNvGrpSpPr/>
          <p:nvPr/>
        </p:nvGrpSpPr>
        <p:grpSpPr>
          <a:xfrm>
            <a:off x="2411280" y="2997360"/>
            <a:ext cx="5185080" cy="1655640"/>
            <a:chOff x="2411280" y="2997360"/>
            <a:chExt cx="5185080" cy="1655640"/>
          </a:xfrm>
        </p:grpSpPr>
        <p:sp>
          <p:nvSpPr>
            <p:cNvPr id="776" name="Elipse 53"/>
            <p:cNvSpPr/>
            <p:nvPr/>
          </p:nvSpPr>
          <p:spPr>
            <a:xfrm>
              <a:off x="4427640" y="2997360"/>
              <a:ext cx="431640" cy="360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7" name="Grupo 65"/>
            <p:cNvGrpSpPr/>
            <p:nvPr/>
          </p:nvGrpSpPr>
          <p:grpSpPr>
            <a:xfrm>
              <a:off x="2411280" y="3213000"/>
              <a:ext cx="5185080" cy="1440000"/>
              <a:chOff x="2411280" y="3213000"/>
              <a:chExt cx="5185080" cy="1440000"/>
            </a:xfrm>
          </p:grpSpPr>
          <p:sp>
            <p:nvSpPr>
              <p:cNvPr id="778" name="Elipse 60"/>
              <p:cNvSpPr/>
              <p:nvPr/>
            </p:nvSpPr>
            <p:spPr>
              <a:xfrm>
                <a:off x="6156360" y="3213000"/>
                <a:ext cx="1150920" cy="144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Cuadro de texto 48"/>
              <p:cNvSpPr/>
              <p:nvPr/>
            </p:nvSpPr>
            <p:spPr>
              <a:xfrm>
                <a:off x="2556000" y="3429000"/>
                <a:ext cx="504036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cil-CoA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G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                                                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gt;10C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Cuadro de texto 47"/>
              <p:cNvSpPr/>
              <p:nvPr/>
            </p:nvSpPr>
            <p:spPr>
              <a:xfrm>
                <a:off x="2411280" y="4005360"/>
                <a:ext cx="50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TAG</a:t>
                </a:r>
                <a:r>
                  <a:rPr b="1" lang="es-ES_tradnl" sz="2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2 MAG                        2 M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Línea 50"/>
              <p:cNvSpPr/>
              <p:nvPr/>
            </p:nvSpPr>
            <p:spPr>
              <a:xfrm flipH="1">
                <a:off x="3274560" y="421956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Línea 51"/>
              <p:cNvSpPr/>
              <p:nvPr/>
            </p:nvSpPr>
            <p:spPr>
              <a:xfrm flipH="1">
                <a:off x="4373640" y="3568680"/>
                <a:ext cx="35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Línea 61"/>
              <p:cNvSpPr/>
              <p:nvPr/>
            </p:nvSpPr>
            <p:spPr>
              <a:xfrm flipH="1">
                <a:off x="5148000" y="422100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Línea 52"/>
              <p:cNvSpPr/>
              <p:nvPr/>
            </p:nvSpPr>
            <p:spPr>
              <a:xfrm flipH="1">
                <a:off x="5292720" y="3429000"/>
                <a:ext cx="9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5" name="1 CuadroTexto"/>
          <p:cNvSpPr/>
          <p:nvPr/>
        </p:nvSpPr>
        <p:spPr>
          <a:xfrm>
            <a:off x="5543280" y="6354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TK: tioquinasas o Acil CoA sintet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1 Rectángulo"/>
          <p:cNvSpPr/>
          <p:nvPr/>
        </p:nvSpPr>
        <p:spPr>
          <a:xfrm>
            <a:off x="179280" y="260280"/>
            <a:ext cx="8640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lípidos del organismo se hallan en un estado dinámico produciéndose constantemente variaciones en su composición que van a depender del metabolismo cel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Son oxidados para obtener energí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Utilizados para la síntesis de constituyentes esenciales de los teji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Almacenados como sustancia de reserva en el tejido adipos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lípidos presentes en la alimentación se encuentran generalmente en mayor concentración en aceites, manteca, yema de huev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n general están presentes como triglicéridos (grasas neutras), ácidos grasos y sus derivados, fosfolípidos, glucolípidos, esteroles y caroten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685440" y="2057040"/>
            <a:ext cx="8062920" cy="4684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Ácidos grasos de cadena corta (6-10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Albúmi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-  Ácidos grasos de cadena larga (12-18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Re-síntesis de TG        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Q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Cuadro de texto 2"/>
          <p:cNvSpPr/>
          <p:nvPr/>
        </p:nvSpPr>
        <p:spPr>
          <a:xfrm>
            <a:off x="755640" y="476280"/>
            <a:ext cx="7489800" cy="106884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DESTINO DE LOS LIPIDOS ABSORBIDOS EN EL ENTEROC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Elipse 5"/>
          <p:cNvSpPr/>
          <p:nvPr/>
        </p:nvSpPr>
        <p:spPr>
          <a:xfrm>
            <a:off x="5262480" y="5064120"/>
            <a:ext cx="1224000" cy="57456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Elipse 6"/>
          <p:cNvSpPr/>
          <p:nvPr/>
        </p:nvSpPr>
        <p:spPr>
          <a:xfrm>
            <a:off x="2023920" y="2755800"/>
            <a:ext cx="1224000" cy="57492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Línea 4"/>
          <p:cNvSpPr/>
          <p:nvPr/>
        </p:nvSpPr>
        <p:spPr>
          <a:xfrm>
            <a:off x="3422520" y="2492280"/>
            <a:ext cx="0" cy="949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Línea 5"/>
          <p:cNvSpPr/>
          <p:nvPr/>
        </p:nvSpPr>
        <p:spPr>
          <a:xfrm>
            <a:off x="4284720" y="3716280"/>
            <a:ext cx="1295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Línea 6"/>
          <p:cNvSpPr/>
          <p:nvPr/>
        </p:nvSpPr>
        <p:spPr>
          <a:xfrm>
            <a:off x="2023920" y="4653000"/>
            <a:ext cx="0" cy="72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Línea 4"/>
          <p:cNvSpPr/>
          <p:nvPr/>
        </p:nvSpPr>
        <p:spPr>
          <a:xfrm>
            <a:off x="5435640" y="5821200"/>
            <a:ext cx="1081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Línea 7"/>
          <p:cNvSpPr/>
          <p:nvPr/>
        </p:nvSpPr>
        <p:spPr>
          <a:xfrm>
            <a:off x="3247920" y="5821200"/>
            <a:ext cx="747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Cuadro de texto 11"/>
          <p:cNvSpPr/>
          <p:nvPr/>
        </p:nvSpPr>
        <p:spPr>
          <a:xfrm>
            <a:off x="6012000" y="3513240"/>
            <a:ext cx="165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Í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Cuadro de texto 13"/>
          <p:cNvSpPr/>
          <p:nvPr/>
        </p:nvSpPr>
        <p:spPr>
          <a:xfrm>
            <a:off x="6659640" y="5586480"/>
            <a:ext cx="151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J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Rounded MT Bold"/>
              </a:rPr>
              <a:t>Biosíntesis de Acil-Coenzima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Grupo 7"/>
          <p:cNvGrpSpPr/>
          <p:nvPr/>
        </p:nvGrpSpPr>
        <p:grpSpPr>
          <a:xfrm>
            <a:off x="900000" y="2827440"/>
            <a:ext cx="7417080" cy="459720"/>
            <a:chOff x="900000" y="2827440"/>
            <a:chExt cx="7417080" cy="459720"/>
          </a:xfrm>
        </p:grpSpPr>
        <p:sp>
          <p:nvSpPr>
            <p:cNvPr id="799" name="Cuadro de texto 4"/>
            <p:cNvSpPr/>
            <p:nvPr/>
          </p:nvSpPr>
          <p:spPr>
            <a:xfrm>
              <a:off x="900000" y="2827440"/>
              <a:ext cx="741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DO GRASO + COA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-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H                    ACIL-C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Línea 5"/>
            <p:cNvSpPr/>
            <p:nvPr/>
          </p:nvSpPr>
          <p:spPr>
            <a:xfrm>
              <a:off x="4932360" y="3114720"/>
              <a:ext cx="1081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1" name="Cuadro de texto 6"/>
          <p:cNvSpPr/>
          <p:nvPr/>
        </p:nvSpPr>
        <p:spPr>
          <a:xfrm rot="18873000">
            <a:off x="4837320" y="21556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oquin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Cuadro de texto 8"/>
          <p:cNvSpPr/>
          <p:nvPr/>
        </p:nvSpPr>
        <p:spPr>
          <a:xfrm>
            <a:off x="4284720" y="3357720"/>
            <a:ext cx="237636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ATP         AMP  + P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Autoforma 9"/>
          <p:cNvSpPr/>
          <p:nvPr/>
        </p:nvSpPr>
        <p:spPr>
          <a:xfrm>
            <a:off x="5148360" y="3141720"/>
            <a:ext cx="431640" cy="287280"/>
          </a:xfrm>
          <a:custGeom>
            <a:avLst/>
            <a:gdLst>
              <a:gd name="textAreaLeft" fmla="*/ 75600 w 431640"/>
              <a:gd name="textAreaRight" fmla="*/ 313200 w 43164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4" name="Grupo 15"/>
          <p:cNvGrpSpPr/>
          <p:nvPr/>
        </p:nvGrpSpPr>
        <p:grpSpPr>
          <a:xfrm>
            <a:off x="179280" y="4599360"/>
            <a:ext cx="8820360" cy="891000"/>
            <a:chOff x="179280" y="4599360"/>
            <a:chExt cx="8820360" cy="891000"/>
          </a:xfrm>
        </p:grpSpPr>
        <p:sp>
          <p:nvSpPr>
            <p:cNvPr id="805" name="Cuadro de texto 10"/>
            <p:cNvSpPr/>
            <p:nvPr/>
          </p:nvSpPr>
          <p:spPr>
            <a:xfrm>
              <a:off x="179280" y="4724280"/>
              <a:ext cx="8820360" cy="7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                                                        O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C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-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 CoA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H +ATP          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C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-CoA + AMP + PP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Elipse 11"/>
            <p:cNvSpPr/>
            <p:nvPr/>
          </p:nvSpPr>
          <p:spPr>
            <a:xfrm rot="19201800">
              <a:off x="125892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Línea 13"/>
            <p:cNvSpPr/>
            <p:nvPr/>
          </p:nvSpPr>
          <p:spPr>
            <a:xfrm>
              <a:off x="4067280" y="5300640"/>
              <a:ext cx="720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Elipse 14"/>
            <p:cNvSpPr/>
            <p:nvPr/>
          </p:nvSpPr>
          <p:spPr>
            <a:xfrm rot="19201800">
              <a:off x="579600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Cuadro de texto 4"/>
          <p:cNvSpPr/>
          <p:nvPr/>
        </p:nvSpPr>
        <p:spPr>
          <a:xfrm>
            <a:off x="755640" y="260280"/>
            <a:ext cx="7467480" cy="5814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iosíntesis de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Grupo 18"/>
          <p:cNvGrpSpPr/>
          <p:nvPr/>
        </p:nvGrpSpPr>
        <p:grpSpPr>
          <a:xfrm>
            <a:off x="142920" y="836640"/>
            <a:ext cx="9001080" cy="1768320"/>
            <a:chOff x="142920" y="836640"/>
            <a:chExt cx="9001080" cy="1768320"/>
          </a:xfrm>
        </p:grpSpPr>
        <p:pic>
          <p:nvPicPr>
            <p:cNvPr id="811" name="Imagen 5" descr="deposito invitrogen002"/>
            <p:cNvPicPr/>
            <p:nvPr/>
          </p:nvPicPr>
          <p:blipFill>
            <a:blip r:embed="rId1"/>
            <a:srcRect l="1274" t="2643" r="2091" b="77633"/>
            <a:stretch/>
          </p:blipFill>
          <p:spPr>
            <a:xfrm>
              <a:off x="142920" y="836640"/>
              <a:ext cx="900108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Cuadro de texto 10"/>
            <p:cNvSpPr/>
            <p:nvPr/>
          </p:nvSpPr>
          <p:spPr>
            <a:xfrm>
              <a:off x="5580000" y="1628640"/>
              <a:ext cx="25923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erol quin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3" name="Rectángulo 12"/>
          <p:cNvSpPr/>
          <p:nvPr/>
        </p:nvSpPr>
        <p:spPr>
          <a:xfrm>
            <a:off x="4427640" y="4149720"/>
            <a:ext cx="43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ángulo 13"/>
          <p:cNvSpPr/>
          <p:nvPr/>
        </p:nvSpPr>
        <p:spPr>
          <a:xfrm>
            <a:off x="4500720" y="285264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Rectángulo 14"/>
          <p:cNvSpPr/>
          <p:nvPr/>
        </p:nvSpPr>
        <p:spPr>
          <a:xfrm>
            <a:off x="4572000" y="566100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6" name="Grupo 23"/>
          <p:cNvGrpSpPr/>
          <p:nvPr/>
        </p:nvGrpSpPr>
        <p:grpSpPr>
          <a:xfrm>
            <a:off x="2987640" y="2565360"/>
            <a:ext cx="4032360" cy="4035600"/>
            <a:chOff x="2987640" y="2565360"/>
            <a:chExt cx="4032360" cy="4035600"/>
          </a:xfrm>
        </p:grpSpPr>
        <p:pic>
          <p:nvPicPr>
            <p:cNvPr id="817" name="Imagen 6" descr="deposito invitrogen002"/>
            <p:cNvPicPr/>
            <p:nvPr/>
          </p:nvPicPr>
          <p:blipFill>
            <a:blip r:embed="rId2"/>
            <a:srcRect l="30802" t="21852" r="30736" b="30711"/>
            <a:stretch/>
          </p:blipFill>
          <p:spPr>
            <a:xfrm>
              <a:off x="2987640" y="2565360"/>
              <a:ext cx="339876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Cuadro de texto 7"/>
            <p:cNvSpPr/>
            <p:nvPr/>
          </p:nvSpPr>
          <p:spPr>
            <a:xfrm>
              <a:off x="4643280" y="285264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Cuadro de texto 9"/>
            <p:cNvSpPr/>
            <p:nvPr/>
          </p:nvSpPr>
          <p:spPr>
            <a:xfrm>
              <a:off x="4716360" y="5589720"/>
              <a:ext cx="1656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at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Autoforma 11"/>
            <p:cNvSpPr/>
            <p:nvPr/>
          </p:nvSpPr>
          <p:spPr>
            <a:xfrm>
              <a:off x="4500720" y="2852640"/>
              <a:ext cx="287280" cy="50508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Cuadro de texto 20"/>
            <p:cNvSpPr/>
            <p:nvPr/>
          </p:nvSpPr>
          <p:spPr>
            <a:xfrm>
              <a:off x="4643280" y="421956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Autoforma 21"/>
            <p:cNvSpPr/>
            <p:nvPr/>
          </p:nvSpPr>
          <p:spPr>
            <a:xfrm>
              <a:off x="4500720" y="421956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Autoforma 22"/>
            <p:cNvSpPr/>
            <p:nvPr/>
          </p:nvSpPr>
          <p:spPr>
            <a:xfrm>
              <a:off x="4500720" y="566100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upo 7"/>
          <p:cNvGrpSpPr/>
          <p:nvPr/>
        </p:nvGrpSpPr>
        <p:grpSpPr>
          <a:xfrm>
            <a:off x="41400" y="260280"/>
            <a:ext cx="9067680" cy="5256360"/>
            <a:chOff x="41400" y="260280"/>
            <a:chExt cx="9067680" cy="5256360"/>
          </a:xfrm>
        </p:grpSpPr>
        <p:pic>
          <p:nvPicPr>
            <p:cNvPr id="825" name="Imagen 4" descr="deposito invitrogen002"/>
            <p:cNvPicPr/>
            <p:nvPr/>
          </p:nvPicPr>
          <p:blipFill>
            <a:blip r:embed="rId1"/>
            <a:srcRect l="1274" t="64805" r="2091" b="6221"/>
            <a:stretch/>
          </p:blipFill>
          <p:spPr>
            <a:xfrm>
              <a:off x="41400" y="2060640"/>
              <a:ext cx="906768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Línea 5"/>
            <p:cNvSpPr/>
            <p:nvPr/>
          </p:nvSpPr>
          <p:spPr>
            <a:xfrm>
              <a:off x="4788000" y="260280"/>
              <a:ext cx="0" cy="1873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Cuadro de texto 6"/>
            <p:cNvSpPr/>
            <p:nvPr/>
          </p:nvSpPr>
          <p:spPr>
            <a:xfrm>
              <a:off x="4859280" y="2781360"/>
              <a:ext cx="1511280" cy="703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ansferas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33480" y="0"/>
            <a:ext cx="919296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2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7872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1 Rectángulo"/>
          <p:cNvSpPr/>
          <p:nvPr/>
        </p:nvSpPr>
        <p:spPr>
          <a:xfrm>
            <a:off x="468360" y="333360"/>
            <a:ext cx="813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UNCIONES DE LOS LÍP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lípidos constituyen más del 10 % del peso corporal de un individuo adulto norm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y aproximadamente el 40 % de las calorías de la aliment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s causa de preocupación en la dieta por sus implicancias en enfermedades cardiovasculare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uando se consumen altos niveles de grasas satur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1 Rectángulo"/>
          <p:cNvSpPr/>
          <p:nvPr/>
        </p:nvSpPr>
        <p:spPr>
          <a:xfrm>
            <a:off x="108000" y="189000"/>
            <a:ext cx="8785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Son  importantes en la alimentación por las diferentes funciones que cump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1.FUNCIÓN DE RESERV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on la principal reserva energética del organism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Un gramo de grasa produce por oxidación 9,4 kcal/g, mientras que las proteínas y los glúcidos sólo producen 4,1 kcal/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2.FUNCIÓN ESTRUCTURAL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orman las bicapas lipídicas de las membranas biológic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Recubren órganos y le dan consistencia, o los protegen mecánicamente, como el tejido adiposo de riñón, pies y man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1 Rectángulo"/>
          <p:cNvSpPr/>
          <p:nvPr/>
        </p:nvSpPr>
        <p:spPr>
          <a:xfrm>
            <a:off x="324000" y="836640"/>
            <a:ext cx="835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3.FUNCIÓN BIOCATALIZADOR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avorecen o facilitan las reacciones que se producen en los seres viv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umplen esta función las vitaminas liposolubles, las hormonas esteroideas y las prostaglandin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4.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UNCIÓN REGULADOR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 partir de ácidos grasos se sintetizan reguladores biológic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omo los EICOSANOIDES, considerados hormonas de acción local  y l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OSFOLÍPIDOS DE INOSITOL que actúan como segundos mensajer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Calibri"/>
              </a:rPr>
              <a:t>Funciones de los lípid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5840" cy="3895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Fuente de energí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Manto térm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Componentes de membranas celula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Estructura de caracteres sexuales secundar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Rounded MT Bold"/>
              </a:rPr>
              <a:t>Aportan ácidos grasos esenciales y vitamin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Rounded MT Bold"/>
              </a:rPr>
              <a:t>Precursores de varios derivados lipídic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Imagen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87789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 Rounded MT Bold"/>
              </a:rPr>
              <a:t>Clasificación de líp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Imagen 3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883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Imagen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704000" cy="5006880"/>
          </a:xfrm>
          <a:prstGeom prst="rect">
            <a:avLst/>
          </a:prstGeom>
          <a:ln w="0">
            <a:noFill/>
          </a:ln>
        </p:spPr>
      </p:pic>
      <p:pic>
        <p:nvPicPr>
          <p:cNvPr id="546" name="Imagen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0:13:00Z</dcterms:created>
  <dc:creator>Fanny</dc:creator>
  <dc:description/>
  <dc:language>en-US</dc:language>
  <cp:lastModifiedBy>Preferred Customer</cp:lastModifiedBy>
  <dcterms:modified xsi:type="dcterms:W3CDTF">2014-04-06T14:20:34Z</dcterms:modified>
  <cp:revision>79</cp:revision>
  <dc:subject/>
  <dc:title>Presentación de PowerPoint</dc:title>
</cp:coreProperties>
</file>